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8D47-804A-4E6A-99DD-DE22578D78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9CB8-36C6-4617-B057-08CB51B4AE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935-8380-4D17-A7E7-64631EAE00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A77E-6274-47F1-9B11-08E9AC54FF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ADE-95DF-465A-B36E-63FECDA23C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04CF-48D4-4733-9B60-2629901DD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41B-3A93-4EB7-91AB-830B0CADB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E9DE-45B2-4B36-82F9-0B80659788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A4C0-8949-4F6F-AB8A-0F6B0EC0CE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EC1F-26D5-40D2-8D20-E11FBC68D9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6053-4B41-4782-BDDB-261A2BCCA5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729-18A0-4977-BF34-43BA54B73C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072-687A-470F-82E7-1492AD7D16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503-C0AE-4447-9EBC-F5270C735B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5E5-A8EE-40BE-9FA2-26C5D18F3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017B-FBF3-4BD5-A15F-27673C6B2C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66D-A934-4D5C-87AF-EEB708A313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271-3E69-4492-985A-E460B1F335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7C9A-372F-426B-8E45-4CE323A6A2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2FCC-A02E-4BCC-81C9-D7F18F41E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514-2E82-46B8-B02F-DD013C767F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00B2-853D-4265-AEE5-53CA3A8BA7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CE6-4968-4015-99D5-3BCA14331E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45D4-3D86-45A0-993D-4E1CBC34EC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35C8-1E74-47A9-B7D5-9E4105E003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FA44-32F2-43DA-A056-2A536FCD19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246E-CABF-4ACF-A6DE-35438D5CA0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C37-A40E-4F31-908E-5AC8E94C35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552A-11F9-4BA6-9997-6D2093A149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BFC-9B57-479B-B472-FA8F39B9E8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EEA-D9C5-468C-8FC7-03D007AEF1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E5F-0ACC-4786-BDA0-88F33D1A82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6F2F-1F09-4827-8525-7015FFA627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8232-29F4-4DBB-8E5F-2D2606028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3C54-A7EA-481A-BB42-56DBC80104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FD42-FCF3-489B-99FA-1CB12C76B5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A330-D483-4498-BA83-63CD77DA4A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8450-CCCE-4A03-B815-5BBA9C3056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D701-F2FC-4F81-8D0D-F3484BCFA6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0AB-40E2-46AE-A901-94F3BBDE5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1CD8-6E25-4C74-B6FA-8A7DC0C77D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8B9C-85D8-4BE4-A2CF-B99454E3A7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95DC-D1DB-4B3F-BD49-D42E0CD13B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7F3-1E04-443E-B2D7-3F18239528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C21-F945-4A81-94CD-324554ACF1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A160-B27F-4AAC-886E-A3F4536C16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1402-C4D4-4D2E-B2E5-8E686BBC52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2D88-1CB3-4729-9852-CADEAA1166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B422-AA0C-44F5-808F-693CA08D5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95A8-D206-4AD3-8813-B696218B3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CB10-815C-4FB9-9228-B31A34E66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92C-7849-4FD3-B744-87A6EC845D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D0B3-52D2-4ACF-96BA-5492836CE2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D3B1-1B6F-481E-9925-E7FFEF0561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FFA-75E2-42F2-93B9-E1AA6C5B8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340B-94DE-4F89-8A43-D7C81618D2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08B5-1A6F-4965-A79E-1A127451CA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6E92-5B38-4146-A12D-3562E6DCB9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1FF-8D59-482B-A645-26369FCEB8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F9E2-62B0-432E-A722-770BD27347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F401-5624-4962-A024-8D956BEF62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2637-2614-456E-9B77-9A5C0FFC70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25FB-3A0E-4541-8151-7DAAED9EE2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BAA-6411-4D1A-98E4-33BD14312B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5D0E-EB19-4B11-A678-65BC5BD31F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71F8-ED59-4FE0-9A6B-68D3BBABB5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BAF5-4DEB-4EF1-973F-5783D24ABC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FD2-07CE-49FF-BBCB-0E2F8E57A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E883-944B-4051-AC83-822E21CBD3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AAA8-F62B-4FB0-BC95-7DCE647D05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3FB-A256-48A7-9398-4A21FA454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83EC-22E9-4DE0-9E6E-516C4ABA40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EF8-3BC5-4569-9C54-68404CC49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696E-0CD5-4839-8A17-B70E31B30D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5480" y="4338360"/>
            <a:ext cx="50389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8D4A-D0DC-40AA-A103-38BA9FF14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B242-AC60-4E24-9844-CB60A669B1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20E4-C5E9-49F7-88C4-3F696486B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2EE6-0FFD-4A28-91B0-F45784458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14A-7DD5-4E2C-BB41-B5221F761B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677-F540-4640-B4CA-2ABE99DB9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E12-2C30-4060-A50E-B2773B4D61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A7E0-F35B-4C64-8B08-3C96DC2ED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6CB3-1AF4-489D-B67D-9A4F5856C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8A2F-0538-4A03-ADC9-DBB50A6363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EFA9-9E1A-4F14-A2BB-A04820F0AF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4392-FD1C-4154-974F-EF29636734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72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637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76160" y="0"/>
            <a:ext cx="8380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di.unipi.it/webservices/Euro" TargetMode="External"/><Relationship Id="rId2" Type="http://schemas.openxmlformats.org/officeDocument/2006/relationships/hyperlink" Target="http://www.w3.org/2001/XMLSchema-instance" TargetMode="External"/><Relationship Id="rId3" Type="http://schemas.openxmlformats.org/officeDocument/2006/relationships/hyperlink" Target="http://www.w3.org/2001/XMLSchema" TargetMode="External"/><Relationship Id="rId4" Type="http://schemas.openxmlformats.org/officeDocument/2006/relationships/hyperlink" Target="http://schemas.xmlsoap.org/soap/envelope" TargetMode="External"/><Relationship Id="rId5" Type="http://schemas.openxmlformats.org/officeDocument/2006/relationships/hyperlink" Target="http://di.unipi.it/webservices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w3.org/2001/XMLSchema-instance" TargetMode="External"/><Relationship Id="rId2" Type="http://schemas.openxmlformats.org/officeDocument/2006/relationships/hyperlink" Target="http://www.w3.org/2001/XMLSchema" TargetMode="External"/><Relationship Id="rId3" Type="http://schemas.openxmlformats.org/officeDocument/2006/relationships/hyperlink" Target="http://schemas.xmlsoap.org/soap/envelope" TargetMode="External"/><Relationship Id="rId4" Type="http://schemas.openxmlformats.org/officeDocument/2006/relationships/hyperlink" Target="http://di.unipi.it/webservice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6999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Web Servi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History of Distributed Object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74280" y="1700280"/>
            <a:ext cx="80629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Protocol Model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passing/queueing (D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/response (RP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based on networ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(NFS, DCE RP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RPC, to lin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969920" y="2514600"/>
            <a:ext cx="1476720" cy="1143000"/>
          </a:xfrm>
          <a:prstGeom prst="rect">
            <a:avLst/>
          </a:prstGeom>
          <a:solidFill>
            <a:srgbClr val="3366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27432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109960" y="3657600"/>
            <a:ext cx="1125360" cy="457200"/>
          </a:xfrm>
          <a:prstGeom prst="rect">
            <a:avLst/>
          </a:prstGeom>
          <a:solidFill>
            <a:srgbClr val="3366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 stu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109960" y="4114800"/>
            <a:ext cx="1125360" cy="533520"/>
          </a:xfrm>
          <a:prstGeom prst="rect">
            <a:avLst/>
          </a:prstGeom>
          <a:solidFill>
            <a:srgbClr val="3366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400800" y="3657600"/>
            <a:ext cx="1125360" cy="457200"/>
          </a:xfrm>
          <a:prstGeom prst="rect">
            <a:avLst/>
          </a:prstGeom>
          <a:solidFill>
            <a:srgbClr val="3366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er stu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400800" y="4114800"/>
            <a:ext cx="1125360" cy="533520"/>
          </a:xfrm>
          <a:prstGeom prst="rect">
            <a:avLst/>
          </a:prstGeom>
          <a:solidFill>
            <a:srgbClr val="3366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109960" y="4648320"/>
            <a:ext cx="5416200" cy="337320"/>
          </a:xfrm>
          <a:prstGeom prst="rect">
            <a:avLst/>
          </a:prstGeom>
          <a:solidFill>
            <a:srgbClr val="3366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189840" y="2514600"/>
            <a:ext cx="1477800" cy="1143000"/>
          </a:xfrm>
          <a:prstGeom prst="rect">
            <a:avLst/>
          </a:prstGeom>
          <a:solidFill>
            <a:srgbClr val="3366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27432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3235320" y="3657600"/>
            <a:ext cx="3165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235320" y="4114800"/>
            <a:ext cx="3165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3600360" y="285264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149720" y="2603520"/>
            <a:ext cx="112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 flipH="1">
            <a:off x="3563640" y="3141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149720" y="2892600"/>
            <a:ext cx="112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184640" y="3733920"/>
            <a:ext cx="112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Middle la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248000" y="4257720"/>
            <a:ext cx="112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Bottom la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149720" y="3324240"/>
            <a:ext cx="112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Top la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3456000" y="25290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mote Procedure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ORPC codify mappings between objects at languag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-side middleware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 and instantiate object in target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oft DCOM and CORBA IIOP were dominating ORPC protoc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G’s specification for interoperability between distributed computing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heterogeneous environments communicating at the object level, regardless of implementation of endpo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B: middleware that establishes requestor-provider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es invocation message to invoke specified method for registered 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s object, unmarshals parameters, invokes method, marshals and returns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ester needs not to be aware of location, language or OS of 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3"/>
          <p:cNvGraphicFramePr/>
          <p:nvPr/>
        </p:nvGraphicFramePr>
        <p:xfrm>
          <a:off x="281160" y="2209680"/>
          <a:ext cx="8874000" cy="38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2209680"/>
                    <a:ext cx="887400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B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erface Definiti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69848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neutral spec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interface Polynomial : MathObject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sequence&lt;Monomial&gt; monomial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int ran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olynomial add(in Polynomial p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s to sever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 (compilers) generate stubs and skeletons in various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ote. No way to know at run-time which interfaces an object provides: IDL gets compiled a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699920"/>
            <a:ext cx="7848720" cy="49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OM distributed extension to 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an ORPC layer on top of DCE 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 server can create object instances of multiple object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 object supports multiple interfaces, representing different view or behavior of the 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 consists of a set of functionally related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s described using M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L compiler generates proxy and stub code in C or C++ from interface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d proxy code provides client-side 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b objects decode incoming client requests and deliver to appropriate object in the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85800" y="0"/>
            <a:ext cx="845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COM Interfa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 client interacts with COM object by acquiring a pointer to an object's interface and invoking methods through that pointer, as if the object resides in the client's address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 follow standard memory layout, same as C++ v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tion at binary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on of binary components in different languages (C++, Java, Visual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99640" y="1700280"/>
            <a:ext cx="82090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OMponents to .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rvice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ction and Meta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ch Interactive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CO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773280" y="1905120"/>
            <a:ext cx="721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COM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480" y="1699920"/>
            <a:ext cx="81122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xy and stub code interact with appropriate runtime libraries to exchange requests and respon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interface has UU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Interface method of IUnkn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Interface returns an interface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pointer points to COM binary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application must know CLSID and IID for an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ictates interface functions calling 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BA / COM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of communication endpoin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: Interoperable Object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: OBJREFs (include reference count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or multiple interfaces (only in DCO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 of payload parameter valu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: Network Data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: Common Data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"/>
          <p:cNvGrpSpPr/>
          <p:nvPr/>
        </p:nvGrpSpPr>
        <p:grpSpPr>
          <a:xfrm>
            <a:off x="844560" y="2281320"/>
            <a:ext cx="3355920" cy="3411360"/>
            <a:chOff x="844560" y="2281320"/>
            <a:chExt cx="3355920" cy="3411360"/>
          </a:xfrm>
        </p:grpSpPr>
        <p:sp>
          <p:nvSpPr>
            <p:cNvPr id="246" name="Freeform 4"/>
            <p:cNvSpPr/>
            <p:nvPr/>
          </p:nvSpPr>
          <p:spPr>
            <a:xfrm>
              <a:off x="844560" y="2281320"/>
              <a:ext cx="3355920" cy="3411360"/>
            </a:xfrm>
            <a:custGeom>
              <a:avLst/>
              <a:gdLst/>
              <a:ahLst/>
              <a:rect l="l" t="t" r="r" b="b"/>
              <a:pathLst>
                <a:path w="2291" h="2149">
                  <a:moveTo>
                    <a:pt x="148" y="0"/>
                  </a:moveTo>
                  <a:lnTo>
                    <a:pt x="0" y="146"/>
                  </a:lnTo>
                  <a:lnTo>
                    <a:pt x="0" y="2149"/>
                  </a:lnTo>
                  <a:lnTo>
                    <a:pt x="2143" y="2149"/>
                  </a:lnTo>
                  <a:lnTo>
                    <a:pt x="2291" y="2003"/>
                  </a:lnTo>
                  <a:lnTo>
                    <a:pt x="2291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"/>
            <p:cNvSpPr/>
            <p:nvPr/>
          </p:nvSpPr>
          <p:spPr>
            <a:xfrm>
              <a:off x="844560" y="2281320"/>
              <a:ext cx="3355920" cy="231840"/>
            </a:xfrm>
            <a:custGeom>
              <a:avLst/>
              <a:gdLst/>
              <a:ahLst/>
              <a:rect l="l" t="t" r="r" b="b"/>
              <a:pathLst>
                <a:path w="2291" h="146">
                  <a:moveTo>
                    <a:pt x="0" y="146"/>
                  </a:moveTo>
                  <a:lnTo>
                    <a:pt x="2143" y="146"/>
                  </a:lnTo>
                  <a:lnTo>
                    <a:pt x="2291" y="0"/>
                  </a:lnTo>
                  <a:lnTo>
                    <a:pt x="148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>
              <a:off x="3983400" y="2281320"/>
              <a:ext cx="216720" cy="3411360"/>
            </a:xfrm>
            <a:custGeom>
              <a:avLst/>
              <a:gdLst/>
              <a:ahLst/>
              <a:rect l="l" t="t" r="r" b="b"/>
              <a:pathLst>
                <a:path w="148" h="2149">
                  <a:moveTo>
                    <a:pt x="0" y="146"/>
                  </a:moveTo>
                  <a:lnTo>
                    <a:pt x="148" y="0"/>
                  </a:lnTo>
                  <a:lnTo>
                    <a:pt x="148" y="2003"/>
                  </a:lnTo>
                  <a:lnTo>
                    <a:pt x="0" y="2149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d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7"/>
          <p:cNvGrpSpPr/>
          <p:nvPr/>
        </p:nvGrpSpPr>
        <p:grpSpPr>
          <a:xfrm>
            <a:off x="5165640" y="2281320"/>
            <a:ext cx="2492640" cy="3411360"/>
            <a:chOff x="5165640" y="2281320"/>
            <a:chExt cx="2492640" cy="3411360"/>
          </a:xfrm>
        </p:grpSpPr>
        <p:sp>
          <p:nvSpPr>
            <p:cNvPr id="250" name="Freeform 8"/>
            <p:cNvSpPr/>
            <p:nvPr/>
          </p:nvSpPr>
          <p:spPr>
            <a:xfrm>
              <a:off x="5165640" y="2281320"/>
              <a:ext cx="2492640" cy="3411360"/>
            </a:xfrm>
            <a:custGeom>
              <a:avLst/>
              <a:gdLst/>
              <a:ahLst/>
              <a:rect l="l" t="t" r="r" b="b"/>
              <a:pathLst>
                <a:path w="1701" h="2149">
                  <a:moveTo>
                    <a:pt x="117" y="0"/>
                  </a:moveTo>
                  <a:lnTo>
                    <a:pt x="0" y="115"/>
                  </a:lnTo>
                  <a:lnTo>
                    <a:pt x="0" y="2149"/>
                  </a:lnTo>
                  <a:lnTo>
                    <a:pt x="1586" y="2149"/>
                  </a:lnTo>
                  <a:lnTo>
                    <a:pt x="1701" y="2034"/>
                  </a:lnTo>
                  <a:lnTo>
                    <a:pt x="1701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5165640" y="2281320"/>
              <a:ext cx="2492640" cy="182520"/>
            </a:xfrm>
            <a:custGeom>
              <a:avLst/>
              <a:gdLst/>
              <a:ahLst/>
              <a:rect l="l" t="t" r="r" b="b"/>
              <a:pathLst>
                <a:path w="1701" h="115">
                  <a:moveTo>
                    <a:pt x="0" y="115"/>
                  </a:moveTo>
                  <a:lnTo>
                    <a:pt x="1586" y="115"/>
                  </a:lnTo>
                  <a:lnTo>
                    <a:pt x="1701" y="0"/>
                  </a:lnTo>
                  <a:lnTo>
                    <a:pt x="117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7489800" y="2281320"/>
              <a:ext cx="168480" cy="3411360"/>
            </a:xfrm>
            <a:custGeom>
              <a:avLst/>
              <a:gdLst/>
              <a:ahLst/>
              <a:rect l="l" t="t" r="r" b="b"/>
              <a:pathLst>
                <a:path w="115" h="2149">
                  <a:moveTo>
                    <a:pt x="0" y="115"/>
                  </a:moveTo>
                  <a:lnTo>
                    <a:pt x="115" y="0"/>
                  </a:lnTo>
                  <a:lnTo>
                    <a:pt x="115" y="2034"/>
                  </a:lnTo>
                  <a:lnTo>
                    <a:pt x="0" y="2149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cd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1"/>
          <p:cNvGrpSpPr/>
          <p:nvPr/>
        </p:nvGrpSpPr>
        <p:grpSpPr>
          <a:xfrm>
            <a:off x="946080" y="2557440"/>
            <a:ext cx="5900400" cy="3029040"/>
            <a:chOff x="946080" y="2557440"/>
            <a:chExt cx="5900400" cy="3029040"/>
          </a:xfrm>
        </p:grpSpPr>
        <p:grpSp>
          <p:nvGrpSpPr>
            <p:cNvPr id="254" name="Group 12"/>
            <p:cNvGrpSpPr/>
            <p:nvPr/>
          </p:nvGrpSpPr>
          <p:grpSpPr>
            <a:xfrm>
              <a:off x="3026880" y="2859120"/>
              <a:ext cx="844200" cy="1158840"/>
              <a:chOff x="3026880" y="2859120"/>
              <a:chExt cx="844200" cy="1158840"/>
            </a:xfrm>
          </p:grpSpPr>
          <p:sp>
            <p:nvSpPr>
              <p:cNvPr id="255" name="Freeform 13"/>
              <p:cNvSpPr/>
              <p:nvPr/>
            </p:nvSpPr>
            <p:spPr>
              <a:xfrm>
                <a:off x="3026880" y="2886120"/>
                <a:ext cx="816480" cy="1101600"/>
              </a:xfrm>
              <a:custGeom>
                <a:avLst/>
                <a:gdLst/>
                <a:ahLst/>
                <a:rect l="l" t="t" r="r" b="b"/>
                <a:pathLst>
                  <a:path w="557" h="694">
                    <a:moveTo>
                      <a:pt x="2" y="0"/>
                    </a:moveTo>
                    <a:lnTo>
                      <a:pt x="59" y="2"/>
                    </a:lnTo>
                    <a:lnTo>
                      <a:pt x="114" y="7"/>
                    </a:lnTo>
                    <a:lnTo>
                      <a:pt x="167" y="16"/>
                    </a:lnTo>
                    <a:lnTo>
                      <a:pt x="218" y="28"/>
                    </a:lnTo>
                    <a:lnTo>
                      <a:pt x="266" y="43"/>
                    </a:lnTo>
                    <a:lnTo>
                      <a:pt x="313" y="60"/>
                    </a:lnTo>
                    <a:lnTo>
                      <a:pt x="355" y="79"/>
                    </a:lnTo>
                    <a:lnTo>
                      <a:pt x="395" y="102"/>
                    </a:lnTo>
                    <a:lnTo>
                      <a:pt x="430" y="126"/>
                    </a:lnTo>
                    <a:lnTo>
                      <a:pt x="462" y="154"/>
                    </a:lnTo>
                    <a:lnTo>
                      <a:pt x="489" y="181"/>
                    </a:lnTo>
                    <a:lnTo>
                      <a:pt x="513" y="212"/>
                    </a:lnTo>
                    <a:lnTo>
                      <a:pt x="532" y="244"/>
                    </a:lnTo>
                    <a:lnTo>
                      <a:pt x="545" y="278"/>
                    </a:lnTo>
                    <a:lnTo>
                      <a:pt x="554" y="313"/>
                    </a:lnTo>
                    <a:lnTo>
                      <a:pt x="557" y="348"/>
                    </a:lnTo>
                    <a:lnTo>
                      <a:pt x="554" y="383"/>
                    </a:lnTo>
                    <a:lnTo>
                      <a:pt x="545" y="418"/>
                    </a:lnTo>
                    <a:lnTo>
                      <a:pt x="532" y="451"/>
                    </a:lnTo>
                    <a:lnTo>
                      <a:pt x="513" y="482"/>
                    </a:lnTo>
                    <a:lnTo>
                      <a:pt x="489" y="513"/>
                    </a:lnTo>
                    <a:lnTo>
                      <a:pt x="462" y="542"/>
                    </a:lnTo>
                    <a:lnTo>
                      <a:pt x="430" y="568"/>
                    </a:lnTo>
                    <a:lnTo>
                      <a:pt x="395" y="593"/>
                    </a:lnTo>
                    <a:lnTo>
                      <a:pt x="355" y="615"/>
                    </a:lnTo>
                    <a:lnTo>
                      <a:pt x="313" y="635"/>
                    </a:lnTo>
                    <a:lnTo>
                      <a:pt x="266" y="651"/>
                    </a:lnTo>
                    <a:lnTo>
                      <a:pt x="218" y="666"/>
                    </a:lnTo>
                    <a:lnTo>
                      <a:pt x="167" y="678"/>
                    </a:lnTo>
                    <a:lnTo>
                      <a:pt x="114" y="686"/>
                    </a:lnTo>
                    <a:lnTo>
                      <a:pt x="59" y="692"/>
                    </a:lnTo>
                    <a:lnTo>
                      <a:pt x="2" y="694"/>
                    </a:lnTo>
                    <a:lnTo>
                      <a:pt x="2" y="694"/>
                    </a:lnTo>
                    <a:lnTo>
                      <a:pt x="0" y="694"/>
                    </a:lnTo>
                    <a:lnTo>
                      <a:pt x="2" y="3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4"/>
              <p:cNvSpPr/>
              <p:nvPr/>
            </p:nvSpPr>
            <p:spPr>
              <a:xfrm>
                <a:off x="3026880" y="2859120"/>
                <a:ext cx="844200" cy="1158840"/>
              </a:xfrm>
              <a:custGeom>
                <a:avLst/>
                <a:gdLst/>
                <a:ahLst/>
                <a:rect l="l" t="t" r="r" b="b"/>
                <a:pathLst>
                  <a:path w="576" h="730">
                    <a:moveTo>
                      <a:pt x="2" y="0"/>
                    </a:moveTo>
                    <a:lnTo>
                      <a:pt x="2" y="36"/>
                    </a:lnTo>
                    <a:lnTo>
                      <a:pt x="59" y="38"/>
                    </a:lnTo>
                    <a:lnTo>
                      <a:pt x="114" y="42"/>
                    </a:lnTo>
                    <a:lnTo>
                      <a:pt x="167" y="51"/>
                    </a:lnTo>
                    <a:lnTo>
                      <a:pt x="167" y="33"/>
                    </a:lnTo>
                    <a:lnTo>
                      <a:pt x="159" y="49"/>
                    </a:lnTo>
                    <a:lnTo>
                      <a:pt x="210" y="61"/>
                    </a:lnTo>
                    <a:lnTo>
                      <a:pt x="259" y="76"/>
                    </a:lnTo>
                    <a:lnTo>
                      <a:pt x="305" y="93"/>
                    </a:lnTo>
                    <a:lnTo>
                      <a:pt x="348" y="114"/>
                    </a:lnTo>
                    <a:lnTo>
                      <a:pt x="387" y="135"/>
                    </a:lnTo>
                    <a:lnTo>
                      <a:pt x="395" y="119"/>
                    </a:lnTo>
                    <a:lnTo>
                      <a:pt x="381" y="133"/>
                    </a:lnTo>
                    <a:lnTo>
                      <a:pt x="416" y="156"/>
                    </a:lnTo>
                    <a:lnTo>
                      <a:pt x="449" y="184"/>
                    </a:lnTo>
                    <a:lnTo>
                      <a:pt x="476" y="211"/>
                    </a:lnTo>
                    <a:lnTo>
                      <a:pt x="500" y="242"/>
                    </a:lnTo>
                    <a:lnTo>
                      <a:pt x="513" y="229"/>
                    </a:lnTo>
                    <a:lnTo>
                      <a:pt x="497" y="236"/>
                    </a:lnTo>
                    <a:lnTo>
                      <a:pt x="514" y="268"/>
                    </a:lnTo>
                    <a:lnTo>
                      <a:pt x="529" y="302"/>
                    </a:lnTo>
                    <a:lnTo>
                      <a:pt x="538" y="337"/>
                    </a:lnTo>
                    <a:lnTo>
                      <a:pt x="554" y="330"/>
                    </a:lnTo>
                    <a:lnTo>
                      <a:pt x="536" y="330"/>
                    </a:lnTo>
                    <a:lnTo>
                      <a:pt x="539" y="365"/>
                    </a:lnTo>
                    <a:lnTo>
                      <a:pt x="536" y="400"/>
                    </a:lnTo>
                    <a:lnTo>
                      <a:pt x="554" y="400"/>
                    </a:lnTo>
                    <a:lnTo>
                      <a:pt x="538" y="392"/>
                    </a:lnTo>
                    <a:lnTo>
                      <a:pt x="529" y="427"/>
                    </a:lnTo>
                    <a:lnTo>
                      <a:pt x="514" y="461"/>
                    </a:lnTo>
                    <a:lnTo>
                      <a:pt x="497" y="492"/>
                    </a:lnTo>
                    <a:lnTo>
                      <a:pt x="513" y="499"/>
                    </a:lnTo>
                    <a:lnTo>
                      <a:pt x="500" y="486"/>
                    </a:lnTo>
                    <a:lnTo>
                      <a:pt x="476" y="517"/>
                    </a:lnTo>
                    <a:lnTo>
                      <a:pt x="449" y="546"/>
                    </a:lnTo>
                    <a:lnTo>
                      <a:pt x="416" y="572"/>
                    </a:lnTo>
                    <a:lnTo>
                      <a:pt x="381" y="597"/>
                    </a:lnTo>
                    <a:lnTo>
                      <a:pt x="395" y="610"/>
                    </a:lnTo>
                    <a:lnTo>
                      <a:pt x="387" y="592"/>
                    </a:lnTo>
                    <a:lnTo>
                      <a:pt x="348" y="614"/>
                    </a:lnTo>
                    <a:lnTo>
                      <a:pt x="305" y="635"/>
                    </a:lnTo>
                    <a:lnTo>
                      <a:pt x="259" y="652"/>
                    </a:lnTo>
                    <a:lnTo>
                      <a:pt x="210" y="667"/>
                    </a:lnTo>
                    <a:lnTo>
                      <a:pt x="159" y="679"/>
                    </a:lnTo>
                    <a:lnTo>
                      <a:pt x="167" y="695"/>
                    </a:lnTo>
                    <a:lnTo>
                      <a:pt x="167" y="677"/>
                    </a:lnTo>
                    <a:lnTo>
                      <a:pt x="114" y="686"/>
                    </a:lnTo>
                    <a:lnTo>
                      <a:pt x="59" y="690"/>
                    </a:lnTo>
                    <a:lnTo>
                      <a:pt x="2" y="693"/>
                    </a:lnTo>
                    <a:lnTo>
                      <a:pt x="2" y="693"/>
                    </a:lnTo>
                    <a:lnTo>
                      <a:pt x="0" y="693"/>
                    </a:lnTo>
                    <a:lnTo>
                      <a:pt x="0" y="730"/>
                    </a:lnTo>
                    <a:lnTo>
                      <a:pt x="2" y="730"/>
                    </a:lnTo>
                    <a:lnTo>
                      <a:pt x="2" y="730"/>
                    </a:lnTo>
                    <a:lnTo>
                      <a:pt x="59" y="727"/>
                    </a:lnTo>
                    <a:lnTo>
                      <a:pt x="114" y="722"/>
                    </a:lnTo>
                    <a:lnTo>
                      <a:pt x="167" y="714"/>
                    </a:lnTo>
                    <a:lnTo>
                      <a:pt x="174" y="712"/>
                    </a:lnTo>
                    <a:lnTo>
                      <a:pt x="225" y="701"/>
                    </a:lnTo>
                    <a:lnTo>
                      <a:pt x="273" y="686"/>
                    </a:lnTo>
                    <a:lnTo>
                      <a:pt x="320" y="668"/>
                    </a:lnTo>
                    <a:lnTo>
                      <a:pt x="362" y="648"/>
                    </a:lnTo>
                    <a:lnTo>
                      <a:pt x="402" y="626"/>
                    </a:lnTo>
                    <a:lnTo>
                      <a:pt x="408" y="623"/>
                    </a:lnTo>
                    <a:lnTo>
                      <a:pt x="443" y="598"/>
                    </a:lnTo>
                    <a:lnTo>
                      <a:pt x="475" y="572"/>
                    </a:lnTo>
                    <a:lnTo>
                      <a:pt x="503" y="543"/>
                    </a:lnTo>
                    <a:lnTo>
                      <a:pt x="526" y="512"/>
                    </a:lnTo>
                    <a:lnTo>
                      <a:pt x="530" y="506"/>
                    </a:lnTo>
                    <a:lnTo>
                      <a:pt x="548" y="476"/>
                    </a:lnTo>
                    <a:lnTo>
                      <a:pt x="563" y="442"/>
                    </a:lnTo>
                    <a:lnTo>
                      <a:pt x="571" y="407"/>
                    </a:lnTo>
                    <a:lnTo>
                      <a:pt x="573" y="400"/>
                    </a:lnTo>
                    <a:lnTo>
                      <a:pt x="573" y="400"/>
                    </a:lnTo>
                    <a:lnTo>
                      <a:pt x="576" y="365"/>
                    </a:lnTo>
                    <a:lnTo>
                      <a:pt x="573" y="330"/>
                    </a:lnTo>
                    <a:lnTo>
                      <a:pt x="571" y="322"/>
                    </a:lnTo>
                    <a:lnTo>
                      <a:pt x="563" y="287"/>
                    </a:lnTo>
                    <a:lnTo>
                      <a:pt x="548" y="254"/>
                    </a:lnTo>
                    <a:lnTo>
                      <a:pt x="530" y="222"/>
                    </a:lnTo>
                    <a:lnTo>
                      <a:pt x="526" y="216"/>
                    </a:lnTo>
                    <a:lnTo>
                      <a:pt x="503" y="185"/>
                    </a:lnTo>
                    <a:lnTo>
                      <a:pt x="475" y="157"/>
                    </a:lnTo>
                    <a:lnTo>
                      <a:pt x="443" y="130"/>
                    </a:lnTo>
                    <a:lnTo>
                      <a:pt x="408" y="106"/>
                    </a:lnTo>
                    <a:lnTo>
                      <a:pt x="402" y="102"/>
                    </a:lnTo>
                    <a:lnTo>
                      <a:pt x="362" y="80"/>
                    </a:lnTo>
                    <a:lnTo>
                      <a:pt x="320" y="60"/>
                    </a:lnTo>
                    <a:lnTo>
                      <a:pt x="273" y="42"/>
                    </a:lnTo>
                    <a:lnTo>
                      <a:pt x="225" y="27"/>
                    </a:lnTo>
                    <a:lnTo>
                      <a:pt x="174" y="16"/>
                    </a:lnTo>
                    <a:lnTo>
                      <a:pt x="167" y="14"/>
                    </a:lnTo>
                    <a:lnTo>
                      <a:pt x="114" y="6"/>
                    </a:lnTo>
                    <a:lnTo>
                      <a:pt x="59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8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5"/>
            <p:cNvGrpSpPr/>
            <p:nvPr/>
          </p:nvGrpSpPr>
          <p:grpSpPr>
            <a:xfrm>
              <a:off x="2190240" y="2859120"/>
              <a:ext cx="840600" cy="1158840"/>
              <a:chOff x="2190240" y="2859120"/>
              <a:chExt cx="840600" cy="1158840"/>
            </a:xfrm>
          </p:grpSpPr>
          <p:sp>
            <p:nvSpPr>
              <p:cNvPr id="258" name="Freeform 16"/>
              <p:cNvSpPr/>
              <p:nvPr/>
            </p:nvSpPr>
            <p:spPr>
              <a:xfrm>
                <a:off x="2219040" y="2886120"/>
                <a:ext cx="811800" cy="1101600"/>
              </a:xfrm>
              <a:custGeom>
                <a:avLst/>
                <a:gdLst/>
                <a:ahLst/>
                <a:rect l="l" t="t" r="r" b="b"/>
                <a:pathLst>
                  <a:path w="557" h="694">
                    <a:moveTo>
                      <a:pt x="556" y="0"/>
                    </a:moveTo>
                    <a:lnTo>
                      <a:pt x="499" y="2"/>
                    </a:lnTo>
                    <a:lnTo>
                      <a:pt x="443" y="7"/>
                    </a:lnTo>
                    <a:lnTo>
                      <a:pt x="390" y="16"/>
                    </a:lnTo>
                    <a:lnTo>
                      <a:pt x="339" y="28"/>
                    </a:lnTo>
                    <a:lnTo>
                      <a:pt x="291" y="43"/>
                    </a:lnTo>
                    <a:lnTo>
                      <a:pt x="246" y="59"/>
                    </a:lnTo>
                    <a:lnTo>
                      <a:pt x="202" y="79"/>
                    </a:lnTo>
                    <a:lnTo>
                      <a:pt x="163" y="101"/>
                    </a:lnTo>
                    <a:lnTo>
                      <a:pt x="128" y="126"/>
                    </a:lnTo>
                    <a:lnTo>
                      <a:pt x="95" y="152"/>
                    </a:lnTo>
                    <a:lnTo>
                      <a:pt x="68" y="181"/>
                    </a:lnTo>
                    <a:lnTo>
                      <a:pt x="44" y="212"/>
                    </a:lnTo>
                    <a:lnTo>
                      <a:pt x="25" y="244"/>
                    </a:lnTo>
                    <a:lnTo>
                      <a:pt x="12" y="276"/>
                    </a:lnTo>
                    <a:lnTo>
                      <a:pt x="3" y="311"/>
                    </a:lnTo>
                    <a:lnTo>
                      <a:pt x="0" y="346"/>
                    </a:lnTo>
                    <a:lnTo>
                      <a:pt x="3" y="381"/>
                    </a:lnTo>
                    <a:lnTo>
                      <a:pt x="12" y="416"/>
                    </a:lnTo>
                    <a:lnTo>
                      <a:pt x="25" y="450"/>
                    </a:lnTo>
                    <a:lnTo>
                      <a:pt x="44" y="481"/>
                    </a:lnTo>
                    <a:lnTo>
                      <a:pt x="68" y="511"/>
                    </a:lnTo>
                    <a:lnTo>
                      <a:pt x="95" y="540"/>
                    </a:lnTo>
                    <a:lnTo>
                      <a:pt x="128" y="567"/>
                    </a:lnTo>
                    <a:lnTo>
                      <a:pt x="163" y="592"/>
                    </a:lnTo>
                    <a:lnTo>
                      <a:pt x="202" y="615"/>
                    </a:lnTo>
                    <a:lnTo>
                      <a:pt x="246" y="634"/>
                    </a:lnTo>
                    <a:lnTo>
                      <a:pt x="291" y="651"/>
                    </a:lnTo>
                    <a:lnTo>
                      <a:pt x="339" y="666"/>
                    </a:lnTo>
                    <a:lnTo>
                      <a:pt x="390" y="678"/>
                    </a:lnTo>
                    <a:lnTo>
                      <a:pt x="443" y="686"/>
                    </a:lnTo>
                    <a:lnTo>
                      <a:pt x="499" y="692"/>
                    </a:lnTo>
                    <a:lnTo>
                      <a:pt x="556" y="694"/>
                    </a:lnTo>
                    <a:lnTo>
                      <a:pt x="557" y="694"/>
                    </a:lnTo>
                    <a:lnTo>
                      <a:pt x="557" y="694"/>
                    </a:lnTo>
                    <a:lnTo>
                      <a:pt x="556" y="346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56d6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7"/>
              <p:cNvSpPr/>
              <p:nvPr/>
            </p:nvSpPr>
            <p:spPr>
              <a:xfrm>
                <a:off x="2190240" y="2859120"/>
                <a:ext cx="832320" cy="1158840"/>
              </a:xfrm>
              <a:custGeom>
                <a:avLst/>
                <a:gdLst/>
                <a:ahLst/>
                <a:rect l="l" t="t" r="r" b="b"/>
                <a:pathLst>
                  <a:path w="574" h="730">
                    <a:moveTo>
                      <a:pt x="573" y="36"/>
                    </a:moveTo>
                    <a:lnTo>
                      <a:pt x="573" y="0"/>
                    </a:lnTo>
                    <a:lnTo>
                      <a:pt x="516" y="1"/>
                    </a:lnTo>
                    <a:lnTo>
                      <a:pt x="460" y="6"/>
                    </a:lnTo>
                    <a:lnTo>
                      <a:pt x="407" y="14"/>
                    </a:lnTo>
                    <a:lnTo>
                      <a:pt x="400" y="16"/>
                    </a:lnTo>
                    <a:lnTo>
                      <a:pt x="349" y="27"/>
                    </a:lnTo>
                    <a:lnTo>
                      <a:pt x="301" y="42"/>
                    </a:lnTo>
                    <a:lnTo>
                      <a:pt x="256" y="60"/>
                    </a:lnTo>
                    <a:lnTo>
                      <a:pt x="212" y="80"/>
                    </a:lnTo>
                    <a:lnTo>
                      <a:pt x="172" y="102"/>
                    </a:lnTo>
                    <a:lnTo>
                      <a:pt x="166" y="105"/>
                    </a:lnTo>
                    <a:lnTo>
                      <a:pt x="131" y="130"/>
                    </a:lnTo>
                    <a:lnTo>
                      <a:pt x="99" y="156"/>
                    </a:lnTo>
                    <a:lnTo>
                      <a:pt x="71" y="185"/>
                    </a:lnTo>
                    <a:lnTo>
                      <a:pt x="48" y="216"/>
                    </a:lnTo>
                    <a:lnTo>
                      <a:pt x="44" y="222"/>
                    </a:lnTo>
                    <a:lnTo>
                      <a:pt x="26" y="254"/>
                    </a:lnTo>
                    <a:lnTo>
                      <a:pt x="12" y="286"/>
                    </a:lnTo>
                    <a:lnTo>
                      <a:pt x="3" y="321"/>
                    </a:lnTo>
                    <a:lnTo>
                      <a:pt x="1" y="328"/>
                    </a:lnTo>
                    <a:lnTo>
                      <a:pt x="0" y="363"/>
                    </a:lnTo>
                    <a:lnTo>
                      <a:pt x="1" y="398"/>
                    </a:lnTo>
                    <a:lnTo>
                      <a:pt x="3" y="406"/>
                    </a:lnTo>
                    <a:lnTo>
                      <a:pt x="12" y="441"/>
                    </a:lnTo>
                    <a:lnTo>
                      <a:pt x="26" y="474"/>
                    </a:lnTo>
                    <a:lnTo>
                      <a:pt x="44" y="505"/>
                    </a:lnTo>
                    <a:lnTo>
                      <a:pt x="48" y="511"/>
                    </a:lnTo>
                    <a:lnTo>
                      <a:pt x="71" y="541"/>
                    </a:lnTo>
                    <a:lnTo>
                      <a:pt x="99" y="571"/>
                    </a:lnTo>
                    <a:lnTo>
                      <a:pt x="131" y="597"/>
                    </a:lnTo>
                    <a:lnTo>
                      <a:pt x="166" y="622"/>
                    </a:lnTo>
                    <a:lnTo>
                      <a:pt x="172" y="626"/>
                    </a:lnTo>
                    <a:lnTo>
                      <a:pt x="212" y="648"/>
                    </a:lnTo>
                    <a:lnTo>
                      <a:pt x="256" y="668"/>
                    </a:lnTo>
                    <a:lnTo>
                      <a:pt x="301" y="686"/>
                    </a:lnTo>
                    <a:lnTo>
                      <a:pt x="349" y="701"/>
                    </a:lnTo>
                    <a:lnTo>
                      <a:pt x="400" y="712"/>
                    </a:lnTo>
                    <a:lnTo>
                      <a:pt x="407" y="714"/>
                    </a:lnTo>
                    <a:lnTo>
                      <a:pt x="460" y="722"/>
                    </a:lnTo>
                    <a:lnTo>
                      <a:pt x="516" y="727"/>
                    </a:lnTo>
                    <a:lnTo>
                      <a:pt x="573" y="730"/>
                    </a:lnTo>
                    <a:lnTo>
                      <a:pt x="574" y="730"/>
                    </a:lnTo>
                    <a:lnTo>
                      <a:pt x="574" y="730"/>
                    </a:lnTo>
                    <a:lnTo>
                      <a:pt x="574" y="693"/>
                    </a:lnTo>
                    <a:lnTo>
                      <a:pt x="574" y="693"/>
                    </a:lnTo>
                    <a:lnTo>
                      <a:pt x="573" y="693"/>
                    </a:lnTo>
                    <a:lnTo>
                      <a:pt x="516" y="690"/>
                    </a:lnTo>
                    <a:lnTo>
                      <a:pt x="460" y="686"/>
                    </a:lnTo>
                    <a:lnTo>
                      <a:pt x="407" y="677"/>
                    </a:lnTo>
                    <a:lnTo>
                      <a:pt x="407" y="695"/>
                    </a:lnTo>
                    <a:lnTo>
                      <a:pt x="415" y="679"/>
                    </a:lnTo>
                    <a:lnTo>
                      <a:pt x="364" y="667"/>
                    </a:lnTo>
                    <a:lnTo>
                      <a:pt x="315" y="652"/>
                    </a:lnTo>
                    <a:lnTo>
                      <a:pt x="270" y="635"/>
                    </a:lnTo>
                    <a:lnTo>
                      <a:pt x="226" y="614"/>
                    </a:lnTo>
                    <a:lnTo>
                      <a:pt x="187" y="592"/>
                    </a:lnTo>
                    <a:lnTo>
                      <a:pt x="180" y="609"/>
                    </a:lnTo>
                    <a:lnTo>
                      <a:pt x="193" y="595"/>
                    </a:lnTo>
                    <a:lnTo>
                      <a:pt x="158" y="571"/>
                    </a:lnTo>
                    <a:lnTo>
                      <a:pt x="126" y="544"/>
                    </a:lnTo>
                    <a:lnTo>
                      <a:pt x="98" y="515"/>
                    </a:lnTo>
                    <a:lnTo>
                      <a:pt x="74" y="484"/>
                    </a:lnTo>
                    <a:lnTo>
                      <a:pt x="61" y="498"/>
                    </a:lnTo>
                    <a:lnTo>
                      <a:pt x="77" y="490"/>
                    </a:lnTo>
                    <a:lnTo>
                      <a:pt x="60" y="460"/>
                    </a:lnTo>
                    <a:lnTo>
                      <a:pt x="45" y="426"/>
                    </a:lnTo>
                    <a:lnTo>
                      <a:pt x="36" y="391"/>
                    </a:lnTo>
                    <a:lnTo>
                      <a:pt x="20" y="398"/>
                    </a:lnTo>
                    <a:lnTo>
                      <a:pt x="38" y="398"/>
                    </a:lnTo>
                    <a:lnTo>
                      <a:pt x="36" y="363"/>
                    </a:lnTo>
                    <a:lnTo>
                      <a:pt x="38" y="328"/>
                    </a:lnTo>
                    <a:lnTo>
                      <a:pt x="20" y="328"/>
                    </a:lnTo>
                    <a:lnTo>
                      <a:pt x="36" y="336"/>
                    </a:lnTo>
                    <a:lnTo>
                      <a:pt x="45" y="300"/>
                    </a:lnTo>
                    <a:lnTo>
                      <a:pt x="60" y="268"/>
                    </a:lnTo>
                    <a:lnTo>
                      <a:pt x="77" y="236"/>
                    </a:lnTo>
                    <a:lnTo>
                      <a:pt x="61" y="229"/>
                    </a:lnTo>
                    <a:lnTo>
                      <a:pt x="74" y="242"/>
                    </a:lnTo>
                    <a:lnTo>
                      <a:pt x="98" y="211"/>
                    </a:lnTo>
                    <a:lnTo>
                      <a:pt x="126" y="182"/>
                    </a:lnTo>
                    <a:lnTo>
                      <a:pt x="158" y="156"/>
                    </a:lnTo>
                    <a:lnTo>
                      <a:pt x="193" y="131"/>
                    </a:lnTo>
                    <a:lnTo>
                      <a:pt x="180" y="118"/>
                    </a:lnTo>
                    <a:lnTo>
                      <a:pt x="187" y="135"/>
                    </a:lnTo>
                    <a:lnTo>
                      <a:pt x="226" y="114"/>
                    </a:lnTo>
                    <a:lnTo>
                      <a:pt x="270" y="93"/>
                    </a:lnTo>
                    <a:lnTo>
                      <a:pt x="315" y="76"/>
                    </a:lnTo>
                    <a:lnTo>
                      <a:pt x="364" y="61"/>
                    </a:lnTo>
                    <a:lnTo>
                      <a:pt x="415" y="49"/>
                    </a:lnTo>
                    <a:lnTo>
                      <a:pt x="407" y="33"/>
                    </a:lnTo>
                    <a:lnTo>
                      <a:pt x="407" y="51"/>
                    </a:lnTo>
                    <a:lnTo>
                      <a:pt x="460" y="42"/>
                    </a:lnTo>
                    <a:lnTo>
                      <a:pt x="516" y="38"/>
                    </a:lnTo>
                    <a:lnTo>
                      <a:pt x="573" y="36"/>
                    </a:lnTo>
                    <a:close/>
                  </a:path>
                </a:pathLst>
              </a:custGeom>
              <a:solidFill>
                <a:srgbClr val="008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Rectangle 18"/>
            <p:cNvSpPr/>
            <p:nvPr/>
          </p:nvSpPr>
          <p:spPr>
            <a:xfrm>
              <a:off x="1911960" y="4319640"/>
              <a:ext cx="973080" cy="882720"/>
            </a:xfrm>
            <a:prstGeom prst="rect">
              <a:avLst/>
            </a:prstGeom>
            <a:solidFill>
              <a:srgbClr val="56d6be"/>
            </a:solidFill>
            <a:ln w="586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9"/>
            <p:cNvSpPr/>
            <p:nvPr/>
          </p:nvSpPr>
          <p:spPr>
            <a:xfrm>
              <a:off x="2877840" y="4319640"/>
              <a:ext cx="970200" cy="882720"/>
            </a:xfrm>
            <a:prstGeom prst="rect">
              <a:avLst/>
            </a:prstGeom>
            <a:solidFill>
              <a:srgbClr val="56d6be"/>
            </a:solidFill>
            <a:ln w="586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0"/>
            <p:cNvSpPr/>
            <p:nvPr/>
          </p:nvSpPr>
          <p:spPr>
            <a:xfrm>
              <a:off x="946080" y="3051000"/>
              <a:ext cx="966960" cy="774720"/>
            </a:xfrm>
            <a:prstGeom prst="rect">
              <a:avLst/>
            </a:prstGeom>
            <a:solidFill>
              <a:srgbClr val="56d6be"/>
            </a:solidFill>
            <a:ln w="586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1"/>
            <p:cNvSpPr/>
            <p:nvPr/>
          </p:nvSpPr>
          <p:spPr>
            <a:xfrm>
              <a:off x="1046880" y="3218040"/>
              <a:ext cx="81468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2"/>
            <p:cNvSpPr/>
            <p:nvPr/>
          </p:nvSpPr>
          <p:spPr>
            <a:xfrm>
              <a:off x="1221120" y="323676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3"/>
            <p:cNvSpPr/>
            <p:nvPr/>
          </p:nvSpPr>
          <p:spPr>
            <a:xfrm>
              <a:off x="1112760" y="342108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 clien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946080" y="4319640"/>
              <a:ext cx="966960" cy="882720"/>
            </a:xfrm>
            <a:prstGeom prst="rect">
              <a:avLst/>
            </a:prstGeom>
            <a:solidFill>
              <a:srgbClr val="56d6be"/>
            </a:solidFill>
            <a:ln w="586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5"/>
            <p:cNvSpPr/>
            <p:nvPr/>
          </p:nvSpPr>
          <p:spPr>
            <a:xfrm>
              <a:off x="997200" y="4427640"/>
              <a:ext cx="8647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1315080" y="4448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7"/>
            <p:cNvSpPr/>
            <p:nvPr/>
          </p:nvSpPr>
          <p:spPr>
            <a:xfrm>
              <a:off x="1063800" y="4624560"/>
              <a:ext cx="84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omatio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1306080" y="480996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421720" y="3106800"/>
              <a:ext cx="610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0"/>
            <p:cNvSpPr/>
            <p:nvPr/>
          </p:nvSpPr>
          <p:spPr>
            <a:xfrm>
              <a:off x="2593080" y="3133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1"/>
            <p:cNvSpPr/>
            <p:nvPr/>
          </p:nvSpPr>
          <p:spPr>
            <a:xfrm>
              <a:off x="946080" y="5199120"/>
              <a:ext cx="2901960" cy="387360"/>
            </a:xfrm>
            <a:prstGeom prst="rect">
              <a:avLst/>
            </a:prstGeom>
            <a:solidFill>
              <a:srgbClr val="56d6be"/>
            </a:solidFill>
            <a:ln w="586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2"/>
            <p:cNvSpPr/>
            <p:nvPr/>
          </p:nvSpPr>
          <p:spPr>
            <a:xfrm>
              <a:off x="1708200" y="5253120"/>
              <a:ext cx="15782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3"/>
            <p:cNvSpPr/>
            <p:nvPr/>
          </p:nvSpPr>
          <p:spPr>
            <a:xfrm>
              <a:off x="1930320" y="5281560"/>
              <a:ext cx="1273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 object bridg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4"/>
            <p:cNvGrpSpPr/>
            <p:nvPr/>
          </p:nvGrpSpPr>
          <p:grpSpPr>
            <a:xfrm>
              <a:off x="4300920" y="3408480"/>
              <a:ext cx="864000" cy="166680"/>
              <a:chOff x="4300920" y="3408480"/>
              <a:chExt cx="864000" cy="166680"/>
            </a:xfrm>
          </p:grpSpPr>
          <p:sp>
            <p:nvSpPr>
              <p:cNvPr id="277" name="Rectangle 35"/>
              <p:cNvSpPr/>
              <p:nvPr/>
            </p:nvSpPr>
            <p:spPr>
              <a:xfrm>
                <a:off x="4536720" y="3463920"/>
                <a:ext cx="393840" cy="57240"/>
              </a:xfrm>
              <a:prstGeom prst="rect">
                <a:avLst/>
              </a:prstGeom>
              <a:solidFill>
                <a:srgbClr val="008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"/>
              <p:cNvSpPr/>
              <p:nvPr/>
            </p:nvSpPr>
            <p:spPr>
              <a:xfrm>
                <a:off x="4300920" y="3408480"/>
                <a:ext cx="240120" cy="163440"/>
              </a:xfrm>
              <a:custGeom>
                <a:avLst/>
                <a:gdLst/>
                <a:ahLst/>
                <a:rect l="l" t="t" r="r" b="b"/>
                <a:pathLst>
                  <a:path w="164" h="103">
                    <a:moveTo>
                      <a:pt x="164" y="0"/>
                    </a:moveTo>
                    <a:lnTo>
                      <a:pt x="0" y="52"/>
                    </a:lnTo>
                    <a:lnTo>
                      <a:pt x="164" y="10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8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"/>
              <p:cNvSpPr/>
              <p:nvPr/>
            </p:nvSpPr>
            <p:spPr>
              <a:xfrm>
                <a:off x="4924800" y="3409920"/>
                <a:ext cx="240120" cy="165240"/>
              </a:xfrm>
              <a:custGeom>
                <a:avLst/>
                <a:gdLst/>
                <a:ahLst/>
                <a:rect l="l" t="t" r="r" b="b"/>
                <a:pathLst>
                  <a:path w="163" h="104">
                    <a:moveTo>
                      <a:pt x="0" y="104"/>
                    </a:moveTo>
                    <a:lnTo>
                      <a:pt x="163" y="51"/>
                    </a:lnTo>
                    <a:lnTo>
                      <a:pt x="0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8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Oval 38"/>
            <p:cNvSpPr/>
            <p:nvPr/>
          </p:nvSpPr>
          <p:spPr>
            <a:xfrm>
              <a:off x="5317920" y="2941560"/>
              <a:ext cx="1528560" cy="1047960"/>
            </a:xfrm>
            <a:prstGeom prst="ellipse">
              <a:avLst/>
            </a:prstGeom>
            <a:solidFill>
              <a:srgbClr val="008080"/>
            </a:solidFill>
            <a:ln w="58680">
              <a:solidFill>
                <a:srgbClr val="008b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9"/>
            <p:cNvSpPr/>
            <p:nvPr/>
          </p:nvSpPr>
          <p:spPr>
            <a:xfrm>
              <a:off x="2115720" y="4538520"/>
              <a:ext cx="612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0"/>
            <p:cNvSpPr/>
            <p:nvPr/>
          </p:nvSpPr>
          <p:spPr>
            <a:xfrm>
              <a:off x="2287080" y="45576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1"/>
            <p:cNvSpPr/>
            <p:nvPr/>
          </p:nvSpPr>
          <p:spPr>
            <a:xfrm>
              <a:off x="2296800" y="474336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2"/>
            <p:cNvSpPr/>
            <p:nvPr/>
          </p:nvSpPr>
          <p:spPr>
            <a:xfrm>
              <a:off x="3031560" y="4538520"/>
              <a:ext cx="612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3"/>
            <p:cNvSpPr/>
            <p:nvPr/>
          </p:nvSpPr>
          <p:spPr>
            <a:xfrm>
              <a:off x="3106080" y="4557600"/>
              <a:ext cx="55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B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4"/>
            <p:cNvSpPr/>
            <p:nvPr/>
          </p:nvSpPr>
          <p:spPr>
            <a:xfrm>
              <a:off x="3213000" y="474336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5"/>
            <p:cNvSpPr/>
            <p:nvPr/>
          </p:nvSpPr>
          <p:spPr>
            <a:xfrm>
              <a:off x="5521680" y="3327480"/>
              <a:ext cx="11826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6"/>
            <p:cNvSpPr/>
            <p:nvPr/>
          </p:nvSpPr>
          <p:spPr>
            <a:xfrm>
              <a:off x="5644080" y="3348000"/>
              <a:ext cx="105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RBA objec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7"/>
            <p:cNvSpPr/>
            <p:nvPr/>
          </p:nvSpPr>
          <p:spPr>
            <a:xfrm>
              <a:off x="4202640" y="3106800"/>
              <a:ext cx="9158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8"/>
            <p:cNvSpPr/>
            <p:nvPr/>
          </p:nvSpPr>
          <p:spPr>
            <a:xfrm>
              <a:off x="4198320" y="3133800"/>
              <a:ext cx="90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BA IIOP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9"/>
            <p:cNvSpPr/>
            <p:nvPr/>
          </p:nvSpPr>
          <p:spPr>
            <a:xfrm>
              <a:off x="3081600" y="3106800"/>
              <a:ext cx="610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0"/>
            <p:cNvSpPr/>
            <p:nvPr/>
          </p:nvSpPr>
          <p:spPr>
            <a:xfrm>
              <a:off x="3156120" y="3127320"/>
              <a:ext cx="55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RB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51"/>
            <p:cNvGrpSpPr/>
            <p:nvPr/>
          </p:nvGrpSpPr>
          <p:grpSpPr>
            <a:xfrm>
              <a:off x="1907280" y="3348000"/>
              <a:ext cx="2322720" cy="1123920"/>
              <a:chOff x="1907280" y="3348000"/>
              <a:chExt cx="2322720" cy="1123920"/>
            </a:xfrm>
          </p:grpSpPr>
          <p:sp>
            <p:nvSpPr>
              <p:cNvPr id="294" name="Freeform 52"/>
              <p:cNvSpPr/>
              <p:nvPr/>
            </p:nvSpPr>
            <p:spPr>
              <a:xfrm>
                <a:off x="1907280" y="3409920"/>
                <a:ext cx="2080800" cy="1062000"/>
              </a:xfrm>
              <a:custGeom>
                <a:avLst/>
                <a:gdLst/>
                <a:ahLst/>
                <a:rect l="l" t="t" r="r" b="b"/>
                <a:pathLst>
                  <a:path w="1420" h="669">
                    <a:moveTo>
                      <a:pt x="7" y="0"/>
                    </a:moveTo>
                    <a:lnTo>
                      <a:pt x="0" y="35"/>
                    </a:lnTo>
                    <a:lnTo>
                      <a:pt x="7" y="37"/>
                    </a:lnTo>
                    <a:lnTo>
                      <a:pt x="15" y="38"/>
                    </a:lnTo>
                    <a:lnTo>
                      <a:pt x="29" y="38"/>
                    </a:lnTo>
                    <a:lnTo>
                      <a:pt x="47" y="38"/>
                    </a:lnTo>
                    <a:lnTo>
                      <a:pt x="67" y="38"/>
                    </a:lnTo>
                    <a:lnTo>
                      <a:pt x="88" y="38"/>
                    </a:lnTo>
                    <a:lnTo>
                      <a:pt x="111" y="38"/>
                    </a:lnTo>
                    <a:lnTo>
                      <a:pt x="159" y="40"/>
                    </a:lnTo>
                    <a:lnTo>
                      <a:pt x="183" y="41"/>
                    </a:lnTo>
                    <a:lnTo>
                      <a:pt x="207" y="44"/>
                    </a:lnTo>
                    <a:lnTo>
                      <a:pt x="231" y="48"/>
                    </a:lnTo>
                    <a:lnTo>
                      <a:pt x="231" y="31"/>
                    </a:lnTo>
                    <a:lnTo>
                      <a:pt x="224" y="47"/>
                    </a:lnTo>
                    <a:lnTo>
                      <a:pt x="245" y="54"/>
                    </a:lnTo>
                    <a:lnTo>
                      <a:pt x="267" y="63"/>
                    </a:lnTo>
                    <a:lnTo>
                      <a:pt x="286" y="73"/>
                    </a:lnTo>
                    <a:lnTo>
                      <a:pt x="294" y="57"/>
                    </a:lnTo>
                    <a:lnTo>
                      <a:pt x="281" y="70"/>
                    </a:lnTo>
                    <a:lnTo>
                      <a:pt x="297" y="83"/>
                    </a:lnTo>
                    <a:lnTo>
                      <a:pt x="310" y="97"/>
                    </a:lnTo>
                    <a:lnTo>
                      <a:pt x="321" y="120"/>
                    </a:lnTo>
                    <a:lnTo>
                      <a:pt x="335" y="107"/>
                    </a:lnTo>
                    <a:lnTo>
                      <a:pt x="319" y="114"/>
                    </a:lnTo>
                    <a:lnTo>
                      <a:pt x="326" y="139"/>
                    </a:lnTo>
                    <a:lnTo>
                      <a:pt x="342" y="132"/>
                    </a:lnTo>
                    <a:lnTo>
                      <a:pt x="324" y="132"/>
                    </a:lnTo>
                    <a:lnTo>
                      <a:pt x="329" y="161"/>
                    </a:lnTo>
                    <a:lnTo>
                      <a:pt x="332" y="193"/>
                    </a:lnTo>
                    <a:lnTo>
                      <a:pt x="332" y="228"/>
                    </a:lnTo>
                    <a:lnTo>
                      <a:pt x="332" y="264"/>
                    </a:lnTo>
                    <a:lnTo>
                      <a:pt x="330" y="342"/>
                    </a:lnTo>
                    <a:lnTo>
                      <a:pt x="329" y="380"/>
                    </a:lnTo>
                    <a:lnTo>
                      <a:pt x="330" y="418"/>
                    </a:lnTo>
                    <a:lnTo>
                      <a:pt x="332" y="454"/>
                    </a:lnTo>
                    <a:lnTo>
                      <a:pt x="336" y="488"/>
                    </a:lnTo>
                    <a:lnTo>
                      <a:pt x="338" y="495"/>
                    </a:lnTo>
                    <a:lnTo>
                      <a:pt x="345" y="527"/>
                    </a:lnTo>
                    <a:lnTo>
                      <a:pt x="356" y="555"/>
                    </a:lnTo>
                    <a:lnTo>
                      <a:pt x="371" y="577"/>
                    </a:lnTo>
                    <a:lnTo>
                      <a:pt x="374" y="583"/>
                    </a:lnTo>
                    <a:lnTo>
                      <a:pt x="396" y="603"/>
                    </a:lnTo>
                    <a:lnTo>
                      <a:pt x="405" y="609"/>
                    </a:lnTo>
                    <a:lnTo>
                      <a:pt x="411" y="613"/>
                    </a:lnTo>
                    <a:lnTo>
                      <a:pt x="424" y="621"/>
                    </a:lnTo>
                    <a:lnTo>
                      <a:pt x="453" y="632"/>
                    </a:lnTo>
                    <a:lnTo>
                      <a:pt x="487" y="643"/>
                    </a:lnTo>
                    <a:lnTo>
                      <a:pt x="524" y="651"/>
                    </a:lnTo>
                    <a:lnTo>
                      <a:pt x="532" y="653"/>
                    </a:lnTo>
                    <a:lnTo>
                      <a:pt x="573" y="660"/>
                    </a:lnTo>
                    <a:lnTo>
                      <a:pt x="617" y="665"/>
                    </a:lnTo>
                    <a:lnTo>
                      <a:pt x="662" y="667"/>
                    </a:lnTo>
                    <a:lnTo>
                      <a:pt x="707" y="669"/>
                    </a:lnTo>
                    <a:lnTo>
                      <a:pt x="752" y="667"/>
                    </a:lnTo>
                    <a:lnTo>
                      <a:pt x="798" y="665"/>
                    </a:lnTo>
                    <a:lnTo>
                      <a:pt x="842" y="659"/>
                    </a:lnTo>
                    <a:lnTo>
                      <a:pt x="882" y="653"/>
                    </a:lnTo>
                    <a:lnTo>
                      <a:pt x="890" y="651"/>
                    </a:lnTo>
                    <a:lnTo>
                      <a:pt x="928" y="643"/>
                    </a:lnTo>
                    <a:lnTo>
                      <a:pt x="963" y="632"/>
                    </a:lnTo>
                    <a:lnTo>
                      <a:pt x="992" y="619"/>
                    </a:lnTo>
                    <a:lnTo>
                      <a:pt x="1005" y="613"/>
                    </a:lnTo>
                    <a:lnTo>
                      <a:pt x="1011" y="609"/>
                    </a:lnTo>
                    <a:lnTo>
                      <a:pt x="1020" y="603"/>
                    </a:lnTo>
                    <a:lnTo>
                      <a:pt x="1042" y="584"/>
                    </a:lnTo>
                    <a:lnTo>
                      <a:pt x="1046" y="578"/>
                    </a:lnTo>
                    <a:lnTo>
                      <a:pt x="1061" y="557"/>
                    </a:lnTo>
                    <a:lnTo>
                      <a:pt x="1071" y="529"/>
                    </a:lnTo>
                    <a:lnTo>
                      <a:pt x="1078" y="500"/>
                    </a:lnTo>
                    <a:lnTo>
                      <a:pt x="1080" y="492"/>
                    </a:lnTo>
                    <a:lnTo>
                      <a:pt x="1084" y="459"/>
                    </a:lnTo>
                    <a:lnTo>
                      <a:pt x="1085" y="424"/>
                    </a:lnTo>
                    <a:lnTo>
                      <a:pt x="1087" y="389"/>
                    </a:lnTo>
                    <a:lnTo>
                      <a:pt x="1085" y="351"/>
                    </a:lnTo>
                    <a:lnTo>
                      <a:pt x="1085" y="278"/>
                    </a:lnTo>
                    <a:lnTo>
                      <a:pt x="1085" y="241"/>
                    </a:lnTo>
                    <a:lnTo>
                      <a:pt x="1088" y="208"/>
                    </a:lnTo>
                    <a:lnTo>
                      <a:pt x="1094" y="177"/>
                    </a:lnTo>
                    <a:lnTo>
                      <a:pt x="1075" y="177"/>
                    </a:lnTo>
                    <a:lnTo>
                      <a:pt x="1093" y="184"/>
                    </a:lnTo>
                    <a:lnTo>
                      <a:pt x="1100" y="156"/>
                    </a:lnTo>
                    <a:lnTo>
                      <a:pt x="1112" y="132"/>
                    </a:lnTo>
                    <a:lnTo>
                      <a:pt x="1094" y="124"/>
                    </a:lnTo>
                    <a:lnTo>
                      <a:pt x="1107" y="137"/>
                    </a:lnTo>
                    <a:lnTo>
                      <a:pt x="1123" y="118"/>
                    </a:lnTo>
                    <a:lnTo>
                      <a:pt x="1135" y="108"/>
                    </a:lnTo>
                    <a:lnTo>
                      <a:pt x="1150" y="99"/>
                    </a:lnTo>
                    <a:lnTo>
                      <a:pt x="1137" y="86"/>
                    </a:lnTo>
                    <a:lnTo>
                      <a:pt x="1144" y="102"/>
                    </a:lnTo>
                    <a:lnTo>
                      <a:pt x="1159" y="95"/>
                    </a:lnTo>
                    <a:lnTo>
                      <a:pt x="1175" y="88"/>
                    </a:lnTo>
                    <a:lnTo>
                      <a:pt x="1211" y="76"/>
                    </a:lnTo>
                    <a:lnTo>
                      <a:pt x="1204" y="60"/>
                    </a:lnTo>
                    <a:lnTo>
                      <a:pt x="1204" y="78"/>
                    </a:lnTo>
                    <a:lnTo>
                      <a:pt x="1245" y="70"/>
                    </a:lnTo>
                    <a:lnTo>
                      <a:pt x="1287" y="64"/>
                    </a:lnTo>
                    <a:lnTo>
                      <a:pt x="1331" y="62"/>
                    </a:lnTo>
                    <a:lnTo>
                      <a:pt x="1376" y="60"/>
                    </a:lnTo>
                    <a:lnTo>
                      <a:pt x="1420" y="62"/>
                    </a:lnTo>
                    <a:lnTo>
                      <a:pt x="1420" y="25"/>
                    </a:lnTo>
                    <a:lnTo>
                      <a:pt x="1376" y="24"/>
                    </a:lnTo>
                    <a:lnTo>
                      <a:pt x="1331" y="25"/>
                    </a:lnTo>
                    <a:lnTo>
                      <a:pt x="1287" y="28"/>
                    </a:lnTo>
                    <a:lnTo>
                      <a:pt x="1245" y="34"/>
                    </a:lnTo>
                    <a:lnTo>
                      <a:pt x="1204" y="41"/>
                    </a:lnTo>
                    <a:lnTo>
                      <a:pt x="1196" y="43"/>
                    </a:lnTo>
                    <a:lnTo>
                      <a:pt x="1160" y="54"/>
                    </a:lnTo>
                    <a:lnTo>
                      <a:pt x="1144" y="62"/>
                    </a:lnTo>
                    <a:lnTo>
                      <a:pt x="1129" y="69"/>
                    </a:lnTo>
                    <a:lnTo>
                      <a:pt x="1123" y="73"/>
                    </a:lnTo>
                    <a:lnTo>
                      <a:pt x="1109" y="82"/>
                    </a:lnTo>
                    <a:lnTo>
                      <a:pt x="1099" y="92"/>
                    </a:lnTo>
                    <a:lnTo>
                      <a:pt x="1081" y="111"/>
                    </a:lnTo>
                    <a:lnTo>
                      <a:pt x="1078" y="117"/>
                    </a:lnTo>
                    <a:lnTo>
                      <a:pt x="1066" y="142"/>
                    </a:lnTo>
                    <a:lnTo>
                      <a:pt x="1059" y="170"/>
                    </a:lnTo>
                    <a:lnTo>
                      <a:pt x="1058" y="177"/>
                    </a:lnTo>
                    <a:lnTo>
                      <a:pt x="1058" y="177"/>
                    </a:lnTo>
                    <a:lnTo>
                      <a:pt x="1052" y="208"/>
                    </a:lnTo>
                    <a:lnTo>
                      <a:pt x="1049" y="241"/>
                    </a:lnTo>
                    <a:lnTo>
                      <a:pt x="1049" y="278"/>
                    </a:lnTo>
                    <a:lnTo>
                      <a:pt x="1049" y="351"/>
                    </a:lnTo>
                    <a:lnTo>
                      <a:pt x="1050" y="389"/>
                    </a:lnTo>
                    <a:lnTo>
                      <a:pt x="1049" y="424"/>
                    </a:lnTo>
                    <a:lnTo>
                      <a:pt x="1047" y="459"/>
                    </a:lnTo>
                    <a:lnTo>
                      <a:pt x="1043" y="492"/>
                    </a:lnTo>
                    <a:lnTo>
                      <a:pt x="1061" y="492"/>
                    </a:lnTo>
                    <a:lnTo>
                      <a:pt x="1045" y="485"/>
                    </a:lnTo>
                    <a:lnTo>
                      <a:pt x="1037" y="514"/>
                    </a:lnTo>
                    <a:lnTo>
                      <a:pt x="1027" y="542"/>
                    </a:lnTo>
                    <a:lnTo>
                      <a:pt x="1012" y="564"/>
                    </a:lnTo>
                    <a:lnTo>
                      <a:pt x="1028" y="571"/>
                    </a:lnTo>
                    <a:lnTo>
                      <a:pt x="1015" y="558"/>
                    </a:lnTo>
                    <a:lnTo>
                      <a:pt x="999" y="574"/>
                    </a:lnTo>
                    <a:lnTo>
                      <a:pt x="985" y="583"/>
                    </a:lnTo>
                    <a:lnTo>
                      <a:pt x="998" y="596"/>
                    </a:lnTo>
                    <a:lnTo>
                      <a:pt x="991" y="580"/>
                    </a:lnTo>
                    <a:lnTo>
                      <a:pt x="977" y="586"/>
                    </a:lnTo>
                    <a:lnTo>
                      <a:pt x="948" y="599"/>
                    </a:lnTo>
                    <a:lnTo>
                      <a:pt x="913" y="609"/>
                    </a:lnTo>
                    <a:lnTo>
                      <a:pt x="875" y="618"/>
                    </a:lnTo>
                    <a:lnTo>
                      <a:pt x="882" y="634"/>
                    </a:lnTo>
                    <a:lnTo>
                      <a:pt x="882" y="616"/>
                    </a:lnTo>
                    <a:lnTo>
                      <a:pt x="842" y="622"/>
                    </a:lnTo>
                    <a:lnTo>
                      <a:pt x="798" y="628"/>
                    </a:lnTo>
                    <a:lnTo>
                      <a:pt x="752" y="631"/>
                    </a:lnTo>
                    <a:lnTo>
                      <a:pt x="707" y="632"/>
                    </a:lnTo>
                    <a:lnTo>
                      <a:pt x="662" y="631"/>
                    </a:lnTo>
                    <a:lnTo>
                      <a:pt x="617" y="628"/>
                    </a:lnTo>
                    <a:lnTo>
                      <a:pt x="573" y="624"/>
                    </a:lnTo>
                    <a:lnTo>
                      <a:pt x="532" y="616"/>
                    </a:lnTo>
                    <a:lnTo>
                      <a:pt x="532" y="635"/>
                    </a:lnTo>
                    <a:lnTo>
                      <a:pt x="539" y="618"/>
                    </a:lnTo>
                    <a:lnTo>
                      <a:pt x="501" y="609"/>
                    </a:lnTo>
                    <a:lnTo>
                      <a:pt x="468" y="599"/>
                    </a:lnTo>
                    <a:lnTo>
                      <a:pt x="438" y="587"/>
                    </a:lnTo>
                    <a:lnTo>
                      <a:pt x="425" y="580"/>
                    </a:lnTo>
                    <a:lnTo>
                      <a:pt x="418" y="596"/>
                    </a:lnTo>
                    <a:lnTo>
                      <a:pt x="431" y="583"/>
                    </a:lnTo>
                    <a:lnTo>
                      <a:pt x="418" y="574"/>
                    </a:lnTo>
                    <a:lnTo>
                      <a:pt x="400" y="557"/>
                    </a:lnTo>
                    <a:lnTo>
                      <a:pt x="387" y="570"/>
                    </a:lnTo>
                    <a:lnTo>
                      <a:pt x="405" y="562"/>
                    </a:lnTo>
                    <a:lnTo>
                      <a:pt x="390" y="540"/>
                    </a:lnTo>
                    <a:lnTo>
                      <a:pt x="378" y="513"/>
                    </a:lnTo>
                    <a:lnTo>
                      <a:pt x="371" y="481"/>
                    </a:lnTo>
                    <a:lnTo>
                      <a:pt x="355" y="488"/>
                    </a:lnTo>
                    <a:lnTo>
                      <a:pt x="373" y="488"/>
                    </a:lnTo>
                    <a:lnTo>
                      <a:pt x="368" y="454"/>
                    </a:lnTo>
                    <a:lnTo>
                      <a:pt x="367" y="418"/>
                    </a:lnTo>
                    <a:lnTo>
                      <a:pt x="365" y="380"/>
                    </a:lnTo>
                    <a:lnTo>
                      <a:pt x="367" y="342"/>
                    </a:lnTo>
                    <a:lnTo>
                      <a:pt x="368" y="264"/>
                    </a:lnTo>
                    <a:lnTo>
                      <a:pt x="368" y="228"/>
                    </a:lnTo>
                    <a:lnTo>
                      <a:pt x="368" y="193"/>
                    </a:lnTo>
                    <a:lnTo>
                      <a:pt x="365" y="161"/>
                    </a:lnTo>
                    <a:lnTo>
                      <a:pt x="361" y="132"/>
                    </a:lnTo>
                    <a:lnTo>
                      <a:pt x="359" y="124"/>
                    </a:lnTo>
                    <a:lnTo>
                      <a:pt x="352" y="99"/>
                    </a:lnTo>
                    <a:lnTo>
                      <a:pt x="348" y="94"/>
                    </a:lnTo>
                    <a:lnTo>
                      <a:pt x="339" y="76"/>
                    </a:lnTo>
                    <a:lnTo>
                      <a:pt x="323" y="57"/>
                    </a:lnTo>
                    <a:lnTo>
                      <a:pt x="307" y="44"/>
                    </a:lnTo>
                    <a:lnTo>
                      <a:pt x="301" y="40"/>
                    </a:lnTo>
                    <a:lnTo>
                      <a:pt x="282" y="29"/>
                    </a:lnTo>
                    <a:lnTo>
                      <a:pt x="260" y="21"/>
                    </a:lnTo>
                    <a:lnTo>
                      <a:pt x="238" y="13"/>
                    </a:lnTo>
                    <a:lnTo>
                      <a:pt x="231" y="12"/>
                    </a:lnTo>
                    <a:lnTo>
                      <a:pt x="207" y="7"/>
                    </a:lnTo>
                    <a:lnTo>
                      <a:pt x="183" y="5"/>
                    </a:lnTo>
                    <a:lnTo>
                      <a:pt x="159" y="3"/>
                    </a:lnTo>
                    <a:lnTo>
                      <a:pt x="111" y="2"/>
                    </a:lnTo>
                    <a:lnTo>
                      <a:pt x="88" y="2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2"/>
                    </a:lnTo>
                    <a:lnTo>
                      <a:pt x="15" y="2"/>
                    </a:lnTo>
                    <a:lnTo>
                      <a:pt x="15" y="19"/>
                    </a:lnTo>
                    <a:lnTo>
                      <a:pt x="2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53"/>
              <p:cNvSpPr/>
              <p:nvPr/>
            </p:nvSpPr>
            <p:spPr>
              <a:xfrm>
                <a:off x="3989880" y="3348000"/>
                <a:ext cx="240120" cy="262080"/>
              </a:xfrm>
              <a:custGeom>
                <a:avLst/>
                <a:gdLst/>
                <a:ahLst/>
                <a:rect l="l" t="t" r="r" b="b"/>
                <a:pathLst>
                  <a:path w="164" h="165">
                    <a:moveTo>
                      <a:pt x="2" y="165"/>
                    </a:moveTo>
                    <a:lnTo>
                      <a:pt x="164" y="80"/>
                    </a:lnTo>
                    <a:lnTo>
                      <a:pt x="0" y="0"/>
                    </a:lnTo>
                    <a:lnTo>
                      <a:pt x="2" y="165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Rectangle 54"/>
            <p:cNvSpPr/>
            <p:nvPr/>
          </p:nvSpPr>
          <p:spPr>
            <a:xfrm>
              <a:off x="2470320" y="3490920"/>
              <a:ext cx="970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5"/>
            <p:cNvSpPr/>
            <p:nvPr/>
          </p:nvSpPr>
          <p:spPr>
            <a:xfrm>
              <a:off x="2527920" y="3519360"/>
              <a:ext cx="97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late cal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6"/>
            <p:cNvSpPr/>
            <p:nvPr/>
          </p:nvSpPr>
          <p:spPr>
            <a:xfrm>
              <a:off x="2877840" y="2557440"/>
              <a:ext cx="1069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7"/>
            <p:cNvSpPr/>
            <p:nvPr/>
          </p:nvSpPr>
          <p:spPr>
            <a:xfrm>
              <a:off x="3029040" y="258768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chine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8"/>
            <p:cNvSpPr/>
            <p:nvPr/>
          </p:nvSpPr>
          <p:spPr>
            <a:xfrm>
              <a:off x="5218200" y="2557440"/>
              <a:ext cx="11224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9"/>
            <p:cNvSpPr/>
            <p:nvPr/>
          </p:nvSpPr>
          <p:spPr>
            <a:xfrm>
              <a:off x="5394960" y="258768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chine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-CORBA Inter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BA and DCOM 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OM platform limi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BA, subtle incompatibilities require ORB from same vend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nce on closely administered enviro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OP must cross firew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 difficulties in data alignment and data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st for Net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y Kirtland’s articles in M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Journal present fir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tch (COM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n vs Microsoft over Ja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1.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 announces .NET, CLR, C#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 with distributed components on the Web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eyond brow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and act on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control, better decision-making and easier collab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al support for different de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to partners: each can build its portion of the appl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asses of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ch Internet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interactive capabilities of desktop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76360" y="1676520"/>
            <a:ext cx="6981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Web Servi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676520"/>
            <a:ext cx="6981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Software Com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Service: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for Web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contained, self-describing, modular component that can be published, located, and invoked across the W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Services: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used either internally or exposed externally over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ible through a standard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s heterogeneous systems to work together as a single web of comput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sely coupl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biquitous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ersal data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rvice-Oriented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4"/>
          <p:cNvSpPr/>
          <p:nvPr/>
        </p:nvSpPr>
        <p:spPr>
          <a:xfrm>
            <a:off x="2448000" y="4978440"/>
            <a:ext cx="1439640" cy="1258920"/>
          </a:xfrm>
          <a:prstGeom prst="hexagon">
            <a:avLst>
              <a:gd name="adj" fmla="val 28589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6"/>
          <p:cNvSpPr/>
          <p:nvPr/>
        </p:nvSpPr>
        <p:spPr>
          <a:xfrm>
            <a:off x="3887640" y="5589720"/>
            <a:ext cx="2160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8"/>
          <p:cNvSpPr/>
          <p:nvPr/>
        </p:nvSpPr>
        <p:spPr>
          <a:xfrm>
            <a:off x="6048360" y="4978440"/>
            <a:ext cx="1440000" cy="1258920"/>
          </a:xfrm>
          <a:prstGeom prst="hexagon">
            <a:avLst>
              <a:gd name="adj" fmla="val 28596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9"/>
          <p:cNvSpPr/>
          <p:nvPr/>
        </p:nvSpPr>
        <p:spPr>
          <a:xfrm>
            <a:off x="4248000" y="1844640"/>
            <a:ext cx="1440000" cy="1258920"/>
          </a:xfrm>
          <a:prstGeom prst="hexagon">
            <a:avLst>
              <a:gd name="adj" fmla="val 28596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2"/>
          <p:cNvSpPr/>
          <p:nvPr/>
        </p:nvSpPr>
        <p:spPr>
          <a:xfrm flipV="1">
            <a:off x="3528720" y="3105720"/>
            <a:ext cx="1081800" cy="18705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3"/>
          <p:cNvSpPr/>
          <p:nvPr/>
        </p:nvSpPr>
        <p:spPr>
          <a:xfrm flipH="1" flipV="1">
            <a:off x="5329080" y="3105720"/>
            <a:ext cx="1081440" cy="1870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4572000" y="5626080"/>
            <a:ext cx="8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6"/>
          <p:cNvSpPr/>
          <p:nvPr/>
        </p:nvSpPr>
        <p:spPr>
          <a:xfrm rot="18021600">
            <a:off x="3282120" y="3819960"/>
            <a:ext cx="11588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ub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7"/>
          <p:cNvSpPr/>
          <p:nvPr/>
        </p:nvSpPr>
        <p:spPr>
          <a:xfrm flipH="1" rot="3578400">
            <a:off x="5513400" y="3819960"/>
            <a:ext cx="11588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Service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 builds and defines the service in WS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 registers the service in UD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finds the service by searching UDDI regis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application binds to the Web service and invokes its operations via SO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Servic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2448000" y="4978440"/>
            <a:ext cx="1439640" cy="1258920"/>
          </a:xfrm>
          <a:prstGeom prst="hexagon">
            <a:avLst>
              <a:gd name="adj" fmla="val 28589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3887640" y="5589720"/>
            <a:ext cx="2160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6048360" y="4978440"/>
            <a:ext cx="1440000" cy="1258920"/>
          </a:xfrm>
          <a:prstGeom prst="hexagon">
            <a:avLst>
              <a:gd name="adj" fmla="val 28596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4248000" y="1844640"/>
            <a:ext cx="1440000" cy="1258920"/>
          </a:xfrm>
          <a:prstGeom prst="hexagon">
            <a:avLst>
              <a:gd name="adj" fmla="val 28596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V="1">
            <a:off x="3528720" y="3105720"/>
            <a:ext cx="1081800" cy="18705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H="1" flipV="1">
            <a:off x="5329080" y="3105720"/>
            <a:ext cx="1081440" cy="1870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4103640" y="5229360"/>
            <a:ext cx="1800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UDDI/WS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 rot="18021600">
            <a:off x="3282120" y="3819960"/>
            <a:ext cx="11588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ub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UDD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 flipH="1" rot="3578400">
            <a:off x="5477040" y="3818520"/>
            <a:ext cx="11588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O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4"/>
          <p:cNvSpPr/>
          <p:nvPr/>
        </p:nvSpPr>
        <p:spPr>
          <a:xfrm>
            <a:off x="612720" y="3213000"/>
            <a:ext cx="2951280" cy="61128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catio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TT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5"/>
          <p:cNvSpPr/>
          <p:nvPr/>
        </p:nvSpPr>
        <p:spPr>
          <a:xfrm>
            <a:off x="611280" y="2637000"/>
            <a:ext cx="2950920" cy="61092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6"/>
          <p:cNvSpPr/>
          <p:nvPr/>
        </p:nvSpPr>
        <p:spPr>
          <a:xfrm>
            <a:off x="611280" y="2097000"/>
            <a:ext cx="2950920" cy="61128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action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O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2286000" y="2651040"/>
            <a:ext cx="4724280" cy="1219320"/>
            <a:chOff x="2286000" y="2651040"/>
            <a:chExt cx="4724280" cy="1219320"/>
          </a:xfrm>
        </p:grpSpPr>
        <p:sp>
          <p:nvSpPr>
            <p:cNvPr id="346" name="Rectangle 3"/>
            <p:cNvSpPr/>
            <p:nvPr/>
          </p:nvSpPr>
          <p:spPr>
            <a:xfrm>
              <a:off x="2286000" y="2651040"/>
              <a:ext cx="4724280" cy="121932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4"/>
            <p:cNvSpPr/>
            <p:nvPr/>
          </p:nvSpPr>
          <p:spPr>
            <a:xfrm>
              <a:off x="3711600" y="2675160"/>
              <a:ext cx="18730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"/>
          <p:cNvGrpSpPr/>
          <p:nvPr/>
        </p:nvGrpSpPr>
        <p:grpSpPr>
          <a:xfrm>
            <a:off x="2286000" y="5192640"/>
            <a:ext cx="4724280" cy="1219320"/>
            <a:chOff x="2286000" y="5192640"/>
            <a:chExt cx="4724280" cy="1219320"/>
          </a:xfrm>
        </p:grpSpPr>
        <p:sp>
          <p:nvSpPr>
            <p:cNvPr id="349" name="Rectangle 6"/>
            <p:cNvSpPr/>
            <p:nvPr/>
          </p:nvSpPr>
          <p:spPr>
            <a:xfrm>
              <a:off x="2286000" y="5192640"/>
              <a:ext cx="4724280" cy="1219320"/>
            </a:xfrm>
            <a:prstGeom prst="rect">
              <a:avLst/>
            </a:prstGeom>
            <a:solidFill>
              <a:srgbClr val="a7d2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7"/>
            <p:cNvSpPr/>
            <p:nvPr/>
          </p:nvSpPr>
          <p:spPr>
            <a:xfrm>
              <a:off x="2361240" y="5238360"/>
              <a:ext cx="39268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me talk to you (SOAP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Services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18"/>
          <p:cNvGrpSpPr/>
          <p:nvPr/>
        </p:nvGrpSpPr>
        <p:grpSpPr>
          <a:xfrm>
            <a:off x="2286000" y="3927600"/>
            <a:ext cx="4724280" cy="1218960"/>
            <a:chOff x="2286000" y="3927600"/>
            <a:chExt cx="4724280" cy="1218960"/>
          </a:xfrm>
        </p:grpSpPr>
        <p:sp>
          <p:nvSpPr>
            <p:cNvPr id="353" name="Rectangle 19"/>
            <p:cNvSpPr/>
            <p:nvPr/>
          </p:nvSpPr>
          <p:spPr>
            <a:xfrm>
              <a:off x="2286000" y="3927600"/>
              <a:ext cx="4724280" cy="121896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2665440" y="3946680"/>
              <a:ext cx="37558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do we talk? (WSDL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56"/>
          <p:cNvGrpSpPr/>
          <p:nvPr/>
        </p:nvGrpSpPr>
        <p:grpSpPr>
          <a:xfrm>
            <a:off x="7238880" y="3067200"/>
            <a:ext cx="1676520" cy="3352680"/>
            <a:chOff x="7238880" y="3067200"/>
            <a:chExt cx="1676520" cy="3352680"/>
          </a:xfrm>
        </p:grpSpPr>
        <p:pic>
          <p:nvPicPr>
            <p:cNvPr id="356" name="Picture 34" descr=""/>
            <p:cNvPicPr/>
            <p:nvPr/>
          </p:nvPicPr>
          <p:blipFill>
            <a:blip r:embed="rId1"/>
            <a:stretch/>
          </p:blipFill>
          <p:spPr>
            <a:xfrm>
              <a:off x="7238880" y="3067200"/>
              <a:ext cx="1676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Rectangle 35"/>
            <p:cNvSpPr/>
            <p:nvPr/>
          </p:nvSpPr>
          <p:spPr>
            <a:xfrm>
              <a:off x="7488360" y="4365720"/>
              <a:ext cx="122076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Web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Servic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1"/>
          <p:cNvGrpSpPr/>
          <p:nvPr/>
        </p:nvGrpSpPr>
        <p:grpSpPr>
          <a:xfrm>
            <a:off x="324000" y="1305000"/>
            <a:ext cx="1655640" cy="5111640"/>
            <a:chOff x="324000" y="1305000"/>
            <a:chExt cx="1655640" cy="5111640"/>
          </a:xfrm>
        </p:grpSpPr>
        <p:sp>
          <p:nvSpPr>
            <p:cNvPr id="359" name="Rectangle 60"/>
            <p:cNvSpPr/>
            <p:nvPr/>
          </p:nvSpPr>
          <p:spPr>
            <a:xfrm>
              <a:off x="324000" y="1305000"/>
              <a:ext cx="1655640" cy="511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9999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8"/>
            <p:cNvSpPr/>
            <p:nvPr/>
          </p:nvSpPr>
          <p:spPr>
            <a:xfrm>
              <a:off x="343080" y="3257640"/>
              <a:ext cx="1623960" cy="1198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Service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onsumer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39"/>
          <p:cNvSpPr/>
          <p:nvPr/>
        </p:nvSpPr>
        <p:spPr>
          <a:xfrm>
            <a:off x="4022640" y="2335320"/>
            <a:ext cx="184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2"/>
          <p:cNvGrpSpPr/>
          <p:nvPr/>
        </p:nvGrpSpPr>
        <p:grpSpPr>
          <a:xfrm>
            <a:off x="7238880" y="1362240"/>
            <a:ext cx="1676520" cy="1447560"/>
            <a:chOff x="7238880" y="1362240"/>
            <a:chExt cx="1676520" cy="1447560"/>
          </a:xfrm>
        </p:grpSpPr>
        <p:pic>
          <p:nvPicPr>
            <p:cNvPr id="363" name="Picture 43" descr=""/>
            <p:cNvPicPr/>
            <p:nvPr/>
          </p:nvPicPr>
          <p:blipFill>
            <a:blip r:embed="rId2"/>
            <a:stretch/>
          </p:blipFill>
          <p:spPr>
            <a:xfrm>
              <a:off x="7238880" y="1362240"/>
              <a:ext cx="1676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Rectangle 44"/>
            <p:cNvSpPr/>
            <p:nvPr/>
          </p:nvSpPr>
          <p:spPr>
            <a:xfrm>
              <a:off x="7467480" y="1969920"/>
              <a:ext cx="12207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UDD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5"/>
          <p:cNvGrpSpPr/>
          <p:nvPr/>
        </p:nvGrpSpPr>
        <p:grpSpPr>
          <a:xfrm>
            <a:off x="2286000" y="1339920"/>
            <a:ext cx="4724280" cy="1218960"/>
            <a:chOff x="2286000" y="1339920"/>
            <a:chExt cx="4724280" cy="1218960"/>
          </a:xfrm>
        </p:grpSpPr>
        <p:sp>
          <p:nvSpPr>
            <p:cNvPr id="366" name="Rectangle 46"/>
            <p:cNvSpPr/>
            <p:nvPr/>
          </p:nvSpPr>
          <p:spPr>
            <a:xfrm>
              <a:off x="2286000" y="1339920"/>
              <a:ext cx="4724280" cy="121896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7"/>
            <p:cNvSpPr/>
            <p:nvPr/>
          </p:nvSpPr>
          <p:spPr>
            <a:xfrm>
              <a:off x="3711600" y="1364040"/>
              <a:ext cx="18730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a Servic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54"/>
          <p:cNvSpPr/>
          <p:nvPr/>
        </p:nvSpPr>
        <p:spPr>
          <a:xfrm>
            <a:off x="4022640" y="852480"/>
            <a:ext cx="184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5"/>
          <p:cNvSpPr/>
          <p:nvPr/>
        </p:nvSpPr>
        <p:spPr>
          <a:xfrm>
            <a:off x="1979640" y="5950080"/>
            <a:ext cx="5256360" cy="468360"/>
          </a:xfrm>
          <a:prstGeom prst="leftArrow">
            <a:avLst>
              <a:gd name="adj1" fmla="val 49833"/>
              <a:gd name="adj2" fmla="val 39332"/>
            </a:avLst>
          </a:prstGeom>
          <a:gradFill rotWithShape="0">
            <a:gsLst>
              <a:gs pos="0">
                <a:srgbClr val="97b1ff">
                  <a:alpha val="0"/>
                </a:srgbClr>
              </a:gs>
              <a:gs pos="50000">
                <a:srgbClr val="3366ff"/>
              </a:gs>
              <a:gs pos="100000">
                <a:srgbClr val="97b1ff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service response (XM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7"/>
          <p:cNvSpPr/>
          <p:nvPr/>
        </p:nvSpPr>
        <p:spPr>
          <a:xfrm flipH="1">
            <a:off x="1978920" y="5553000"/>
            <a:ext cx="5256360" cy="468360"/>
          </a:xfrm>
          <a:prstGeom prst="leftArrow">
            <a:avLst>
              <a:gd name="adj1" fmla="val 49833"/>
              <a:gd name="adj2" fmla="val 39332"/>
            </a:avLst>
          </a:prstGeom>
          <a:solidFill>
            <a:srgbClr val="ffff99">
              <a:alpha val="79000"/>
            </a:srgbClr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yourservice.com/sv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8"/>
          <p:cNvSpPr/>
          <p:nvPr/>
        </p:nvSpPr>
        <p:spPr>
          <a:xfrm>
            <a:off x="1979640" y="4689360"/>
            <a:ext cx="5256360" cy="468360"/>
          </a:xfrm>
          <a:prstGeom prst="leftArrow">
            <a:avLst>
              <a:gd name="adj1" fmla="val 49833"/>
              <a:gd name="adj2" fmla="val 39332"/>
            </a:avLst>
          </a:prstGeom>
          <a:gradFill rotWithShape="0">
            <a:gsLst>
              <a:gs pos="0">
                <a:srgbClr val="97b1ff">
                  <a:alpha val="0"/>
                </a:srgbClr>
              </a:gs>
              <a:gs pos="50000">
                <a:srgbClr val="3366ff"/>
              </a:gs>
              <a:gs pos="100000">
                <a:srgbClr val="97b1ff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service descriptions (XM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9"/>
          <p:cNvSpPr/>
          <p:nvPr/>
        </p:nvSpPr>
        <p:spPr>
          <a:xfrm flipH="1">
            <a:off x="1978920" y="4255920"/>
            <a:ext cx="5256360" cy="468360"/>
          </a:xfrm>
          <a:prstGeom prst="leftArrow">
            <a:avLst>
              <a:gd name="adj1" fmla="val 49833"/>
              <a:gd name="adj2" fmla="val 39332"/>
            </a:avLst>
          </a:prstGeom>
          <a:solidFill>
            <a:srgbClr val="ffff99">
              <a:alpha val="79000"/>
            </a:srgbClr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yourservice.com/?WSD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2"/>
          <p:cNvSpPr/>
          <p:nvPr/>
        </p:nvSpPr>
        <p:spPr>
          <a:xfrm>
            <a:off x="1979640" y="3392640"/>
            <a:ext cx="5256360" cy="468000"/>
          </a:xfrm>
          <a:prstGeom prst="leftArrow">
            <a:avLst>
              <a:gd name="adj1" fmla="val 49833"/>
              <a:gd name="adj2" fmla="val 39362"/>
            </a:avLst>
          </a:prstGeom>
          <a:gradFill rotWithShape="0">
            <a:gsLst>
              <a:gs pos="0">
                <a:srgbClr val="97b1ff">
                  <a:alpha val="0"/>
                </a:srgbClr>
              </a:gs>
              <a:gs pos="50000">
                <a:srgbClr val="3366ff"/>
              </a:gs>
              <a:gs pos="100000">
                <a:srgbClr val="97b1ff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ML with link to WSD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63"/>
          <p:cNvSpPr/>
          <p:nvPr/>
        </p:nvSpPr>
        <p:spPr>
          <a:xfrm flipH="1">
            <a:off x="1978920" y="2960640"/>
            <a:ext cx="5256360" cy="468360"/>
          </a:xfrm>
          <a:prstGeom prst="leftArrow">
            <a:avLst>
              <a:gd name="adj1" fmla="val 49833"/>
              <a:gd name="adj2" fmla="val 39332"/>
            </a:avLst>
          </a:prstGeom>
          <a:solidFill>
            <a:srgbClr val="ffff99">
              <a:alpha val="79000"/>
            </a:srgbClr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yourservice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4"/>
          <p:cNvSpPr/>
          <p:nvPr/>
        </p:nvSpPr>
        <p:spPr>
          <a:xfrm flipH="1">
            <a:off x="1943280" y="1592280"/>
            <a:ext cx="5256000" cy="468360"/>
          </a:xfrm>
          <a:prstGeom prst="leftArrow">
            <a:avLst>
              <a:gd name="adj1" fmla="val 49833"/>
              <a:gd name="adj2" fmla="val 39329"/>
            </a:avLst>
          </a:prstGeom>
          <a:solidFill>
            <a:srgbClr val="ffff99">
              <a:alpha val="79000"/>
            </a:srgbClr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uddi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5"/>
          <p:cNvSpPr/>
          <p:nvPr/>
        </p:nvSpPr>
        <p:spPr>
          <a:xfrm>
            <a:off x="1979640" y="2060640"/>
            <a:ext cx="5256360" cy="468360"/>
          </a:xfrm>
          <a:prstGeom prst="leftArrow">
            <a:avLst>
              <a:gd name="adj1" fmla="val 49833"/>
              <a:gd name="adj2" fmla="val 39332"/>
            </a:avLst>
          </a:prstGeom>
          <a:gradFill rotWithShape="0">
            <a:gsLst>
              <a:gs pos="0">
                <a:srgbClr val="97b1ff">
                  <a:alpha val="0"/>
                </a:srgbClr>
              </a:gs>
              <a:gs pos="50000">
                <a:srgbClr val="3366ff"/>
              </a:gs>
              <a:gs pos="100000">
                <a:srgbClr val="97b1ff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 to discovery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frastructur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74640" y="1698480"/>
            <a:ext cx="846936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Directories</a:t>
            </a:r>
            <a:br>
              <a:rPr sz="2800"/>
            </a:b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location to locate Web Servi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d by other organizations (e.g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D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Discove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ng WSDL for a particular We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Description</a:t>
            </a:r>
            <a:br>
              <a:rPr sz="2800"/>
            </a:b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s what interactions the We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sup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Wire Formats</a:t>
            </a:r>
            <a:br>
              <a:rPr sz="2800"/>
            </a:b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universal communication (e.g. SO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e-protocol based on XML and HTTP that consists of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nvelope for describing what is in a message and how to process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t of encoding rules for expressing instances of application-defined data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nvention for representing remote procedure calls and respon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SOAP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56720" y="1698480"/>
            <a:ext cx="80629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POST /CurrencyServer/CurrencyExchange.asmx HTTP/1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Host: these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nt-Type: text/xml; charset=utf-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Content-Length: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SOAPAction: </a:t>
            </a:r>
            <a:r>
              <a:rPr b="1" lang="en-US" sz="1800" spc="-1" strike="noStrike" u="sng">
                <a:solidFill>
                  <a:srgbClr val="ff0033"/>
                </a:solidFill>
                <a:uFillTx/>
                <a:latin typeface="Lucida Sans Typewriter"/>
                <a:hlinkClick r:id="rId1"/>
              </a:rPr>
              <a:t>http://di.unipi.it/webservices/Eu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?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xml version="1.0" encoding="utf-8"?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soap:Envel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xmlns:xsi=</a:t>
            </a:r>
            <a:r>
              <a:rPr b="1" lang="en-US" sz="1800" spc="-1" strike="noStrike" u="sng">
                <a:solidFill>
                  <a:srgbClr val="ff0033"/>
                </a:solidFill>
                <a:uFillTx/>
                <a:latin typeface="Lucida Sans Typewriter"/>
                <a:hlinkClick r:id="rId2"/>
              </a:rPr>
              <a:t>http://www.w3.org/2001/XMLSchema-in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xmlns:xsd=</a:t>
            </a:r>
            <a:r>
              <a:rPr b="1" lang="en-US" sz="1800" spc="-1" strike="noStrike" u="sng">
                <a:solidFill>
                  <a:srgbClr val="ff0033"/>
                </a:solidFill>
                <a:uFillTx/>
                <a:latin typeface="Lucida Sans Typewriter"/>
                <a:hlinkClick r:id="rId3"/>
              </a:rPr>
              <a:t>http://www.w3.org/2001/XML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xmlns:soap=</a:t>
            </a:r>
            <a:r>
              <a:rPr b="1" lang="en-US" sz="1800" spc="-1" strike="noStrike" u="sng">
                <a:solidFill>
                  <a:srgbClr val="ff0033"/>
                </a:solidFill>
                <a:uFillTx/>
                <a:latin typeface="Lucida Sans Typewriter"/>
                <a:hlinkClick r:id="rId4"/>
              </a:rPr>
              <a:t>http://schemas.xmlsoap.org/soap/envelope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soap:Body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Euro xmlns=</a:t>
            </a:r>
            <a:r>
              <a:rPr b="1" lang="en-US" sz="1800" spc="-1" strike="noStrike" u="sng">
                <a:solidFill>
                  <a:srgbClr val="ff0033"/>
                </a:solidFill>
                <a:uFillTx/>
                <a:latin typeface="Lucida Sans Typewriter"/>
                <a:hlinkClick r:id="rId5"/>
              </a:rPr>
              <a:t>http://di.unipi.it/webservices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currency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string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/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currency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/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Euro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/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soap:Body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lt;/</a:t>
            </a:r>
            <a:r>
              <a:rPr b="1" lang="en-US" sz="1800" spc="-1" strike="noStrike">
                <a:solidFill>
                  <a:srgbClr val="cc00cc"/>
                </a:solidFill>
                <a:latin typeface="Lucida Sans Typewriter"/>
              </a:rPr>
              <a:t>soap:Envelope</a:t>
            </a:r>
            <a:r>
              <a:rPr b="1" lang="en-US" sz="1800" spc="-1" strike="noStrike">
                <a:solidFill>
                  <a:srgbClr val="3366ff"/>
                </a:solidFill>
                <a:latin typeface="Lucida Sans Typewriter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 Classes and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 class: body of source code that implements COM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real functions in any supported programming language for each interface method it sup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COM class has a unique identifier (CLS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asks COM to create an object and return interface poi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applications interact with COM objects through interface po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ple SOAP re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/1.1 200 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Type: text/xml; charset=utf-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Length: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?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xml version="1.0" encoding="utf-8"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soap:Envel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xmlns:xsi=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w3.org/2001/XMLSchema-instance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xmlns:xsd=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://www.w3.org/2001/XMLSchema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xmlns:soap=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http://schemas.xmlsoap.org/soap/envelope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soap:Body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EuroResponse xmlns=</a:t>
            </a: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http://di.unipi.it/webservices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EuroResult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EuroResult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EuroResponse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soap:Body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soap:Envelope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ther Wire-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 G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 PO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iz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Web Service Description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6" descr="Original image"/>
          <p:cNvPicPr/>
          <p:nvPr/>
        </p:nvPicPr>
        <p:blipFill>
          <a:blip r:embed="rId1"/>
          <a:stretch/>
        </p:blipFill>
        <p:spPr>
          <a:xfrm>
            <a:off x="3098880" y="2287440"/>
            <a:ext cx="2946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SD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85800" y="1698480"/>
          <a:ext cx="7772400" cy="5159520"/>
        </p:xfrm>
        <a:graphic>
          <a:graphicData uri="http://schemas.openxmlformats.org/drawingml/2006/table">
            <a:tbl>
              <a:tblPr/>
              <a:tblGrid>
                <a:gridCol w="2554200"/>
                <a:gridCol w="5218200"/>
              </a:tblGrid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ype defini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of request and reply for each method 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DL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Typ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ervice, protocol&gt;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per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54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ssag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 and data-format specific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Port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nding }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 (≈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SD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cy Exchange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double Rate(String From, String 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double Euro(String Currenc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UR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theseus/CurrencyServer/CurrencyExchange.asm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SD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440" y="981000"/>
            <a:ext cx="439092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RateSoapIn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parameters" element="s0:Rate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RateSoapOut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parameters" element="s0:RateResponse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EuroSoapIn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parameters" element="s0:Euro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EuroSoapOut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parameters" element="s0:EuroResponse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RateHttpGetIn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from" type="s:string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to" type="s:string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RateHttpGetOut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Body" element="s0:double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EuroHttpGetIn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currency" type="s:string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EuroHttpGetOut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Body" element="s0:double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48000" y="1698480"/>
            <a:ext cx="399564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RateHttpPostIn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from" type="s:string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to" type="s:string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RateHttpPostOut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Body" element="s0:double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EuroHttpPostIn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currency" type="s:string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message name="EuroHttpPostOut"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art name="Body" element="s0:double" /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uilding A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65000" y="1125360"/>
            <a:ext cx="8415360" cy="53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 file (plain text = notepad accessible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d at run-time similar to ASP.NET p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 hit s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extension is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.asm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can be inline or in separate assem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uilding T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412640"/>
            <a:ext cx="7772400" cy="51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R exposes its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n create elements direc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when using tools, you can look at their output and change 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uilding A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4000" y="1267920"/>
            <a:ext cx="8459640" cy="520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%@ ServiceHost Service=“class“ CodeBehind="class.svc.cs" %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the class and file with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urier New"/>
              </a:rPr>
              <a:t>us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ystem.ServiceModel.Web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name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OperationContract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is ‘web callable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al: WebService base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ASP.NET intrin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533520" y="1143000"/>
            <a:ext cx="8305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087640" y="1521000"/>
            <a:ext cx="3047760" cy="163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s://msdn.microsoft.com/en-us/library/bb386386(v=vs.120).asp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not dependent on implementation details of CO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serv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cess server: DLL loaded into client process calls go directly to object created in the client'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process server: separate executable, either on same machine as a client or on remote machine; calls go first to an in-process proxy which uses RPC; in the server, stub object receives each incoming call and dispatches to appropriate COM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 control is in-process COM server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reating Web Service Cli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74640" y="1341360"/>
            <a:ext cx="8285040" cy="53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b WSDL from Web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proxy from WS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e methods against proxy, passing input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87520" indent="-4572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xy calls Web Service on your beha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87520" indent="-457200">
              <a:spcBef>
                <a:spcPts val="60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 returns results to pro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rieve results from prox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SP.NET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1760" y="1267920"/>
            <a:ext cx="827388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proxy and SOAP protocol to communicate with Web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sd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ility to create local 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xy using vbc or cs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87520" indent="-45720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compiled proxy assembly in bin folder of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87520" indent="-45720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proxy namespace, code to proxy’s properties and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60240" y="1366920"/>
            <a:ext cx="3048120" cy="16383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050920" y="4076280"/>
            <a:ext cx="640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msdn.microsoft.com/en-us/library/bb386386(v=vs.120).aspx#Anchor_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ing SOAP tool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 Typewriter"/>
              </a:rPr>
              <a:t>// allocate a new SoapClient poi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m_pClient = new ISOAPClien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 Typewriter"/>
              </a:rPr>
              <a:t>// create the SoapClient poi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m_pClient-&gt;CreateDispatch("MSSOAP.SoapClient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//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 Typewriter"/>
              </a:rPr>
              <a:t>initialize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m_pClient-&gt;mssoapinit("http://www.MyService.com/Calc.wsdl", "Calc", "CalcPortType", NULL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//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 Typewriter"/>
              </a:rPr>
              <a:t>perform ad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double ISOAPClient::Add(double dblA, double dblB, DISPID dispi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double resul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static BYTE parms[] = VTS_R8 VTS_R8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InvokeHelper(dispid, DISPATCH_METHOD, VT_R8, (void*)&amp;result, parms, dblA, dblB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return resul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ent S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HTTP G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e XML yoursel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wsdl.exe, generate client-side program, invoke it through Jscri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ctiveX or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icrosoft 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oftware platform for XML Web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mercial Offe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microsoft.com/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ibm.com/websp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java.sun.com/j2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ole of C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and more programs run on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memory lea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fies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burden of 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 incompati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 are remotely acce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easily reproduced if built on same basic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s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ght incompatibilities in 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s type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s for dynamic inv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s custo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seri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cessing inside SOAP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2943360" y="321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7315200" y="63118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2340000" y="1736640"/>
            <a:ext cx="719280" cy="50508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3274920" y="1736640"/>
            <a:ext cx="719280" cy="50508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S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2195640" y="2421000"/>
            <a:ext cx="2052360" cy="611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DLR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ad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1871640" y="4005360"/>
            <a:ext cx="2700360" cy="576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DLOperation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tOperationParts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2"/>
          <p:cNvSpPr/>
          <p:nvPr/>
        </p:nvSpPr>
        <p:spPr>
          <a:xfrm>
            <a:off x="3132000" y="3176640"/>
            <a:ext cx="108000" cy="108000"/>
          </a:xfrm>
          <a:prstGeom prst="flowChartConnector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9"/>
          <p:cNvSpPr/>
          <p:nvPr/>
        </p:nvSpPr>
        <p:spPr>
          <a:xfrm>
            <a:off x="3456000" y="3392640"/>
            <a:ext cx="108000" cy="107640"/>
          </a:xfrm>
          <a:prstGeom prst="flowChartConnector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0"/>
          <p:cNvSpPr/>
          <p:nvPr/>
        </p:nvSpPr>
        <p:spPr>
          <a:xfrm>
            <a:off x="3132000" y="3427560"/>
            <a:ext cx="108000" cy="107640"/>
          </a:xfrm>
          <a:prstGeom prst="flowChartConnector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"/>
          <p:cNvSpPr/>
          <p:nvPr/>
        </p:nvSpPr>
        <p:spPr>
          <a:xfrm>
            <a:off x="3600360" y="3679920"/>
            <a:ext cx="108000" cy="108000"/>
          </a:xfrm>
          <a:prstGeom prst="flowChartConnector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2"/>
          <p:cNvSpPr/>
          <p:nvPr/>
        </p:nvSpPr>
        <p:spPr>
          <a:xfrm>
            <a:off x="2916360" y="3427560"/>
            <a:ext cx="108000" cy="107640"/>
          </a:xfrm>
          <a:prstGeom prst="flowChartConnector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3"/>
          <p:cNvSpPr/>
          <p:nvPr/>
        </p:nvSpPr>
        <p:spPr>
          <a:xfrm>
            <a:off x="2808360" y="3679920"/>
            <a:ext cx="108000" cy="108000"/>
          </a:xfrm>
          <a:prstGeom prst="flowChartConnector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4"/>
          <p:cNvSpPr/>
          <p:nvPr/>
        </p:nvSpPr>
        <p:spPr>
          <a:xfrm>
            <a:off x="3059280" y="3679920"/>
            <a:ext cx="107640" cy="108000"/>
          </a:xfrm>
          <a:prstGeom prst="flowChartConnector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8"/>
          <p:cNvSpPr/>
          <p:nvPr/>
        </p:nvSpPr>
        <p:spPr>
          <a:xfrm>
            <a:off x="3203640" y="3284640"/>
            <a:ext cx="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9"/>
          <p:cNvSpPr/>
          <p:nvPr/>
        </p:nvSpPr>
        <p:spPr>
          <a:xfrm>
            <a:off x="3203640" y="3284640"/>
            <a:ext cx="25236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0"/>
          <p:cNvSpPr/>
          <p:nvPr/>
        </p:nvSpPr>
        <p:spPr>
          <a:xfrm>
            <a:off x="3527280" y="3500280"/>
            <a:ext cx="108000" cy="179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1"/>
          <p:cNvSpPr/>
          <p:nvPr/>
        </p:nvSpPr>
        <p:spPr>
          <a:xfrm flipV="1">
            <a:off x="2987640" y="3284280"/>
            <a:ext cx="14436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2"/>
          <p:cNvSpPr/>
          <p:nvPr/>
        </p:nvSpPr>
        <p:spPr>
          <a:xfrm flipV="1">
            <a:off x="2879640" y="3535200"/>
            <a:ext cx="7164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2987640" y="3535200"/>
            <a:ext cx="7164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4"/>
          <p:cNvSpPr/>
          <p:nvPr/>
        </p:nvSpPr>
        <p:spPr>
          <a:xfrm>
            <a:off x="2627280" y="4869000"/>
            <a:ext cx="720720" cy="684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.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5"/>
          <p:cNvSpPr/>
          <p:nvPr/>
        </p:nvSpPr>
        <p:spPr>
          <a:xfrm>
            <a:off x="2519280" y="5049720"/>
            <a:ext cx="720720" cy="68436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.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6"/>
          <p:cNvSpPr/>
          <p:nvPr/>
        </p:nvSpPr>
        <p:spPr>
          <a:xfrm>
            <a:off x="2303640" y="5300640"/>
            <a:ext cx="720720" cy="68436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.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755640" y="4976640"/>
            <a:ext cx="100800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(3, 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755640" y="5589720"/>
            <a:ext cx="100800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1762200" y="5119560"/>
            <a:ext cx="7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1726920" y="5769000"/>
            <a:ext cx="5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>
            <a:off x="2664000" y="2241720"/>
            <a:ext cx="0" cy="142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>
            <a:off x="3672000" y="2241720"/>
            <a:ext cx="0" cy="179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3"/>
          <p:cNvSpPr/>
          <p:nvPr/>
        </p:nvSpPr>
        <p:spPr>
          <a:xfrm>
            <a:off x="3816360" y="5049720"/>
            <a:ext cx="1332000" cy="287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ializ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4"/>
          <p:cNvSpPr/>
          <p:nvPr/>
        </p:nvSpPr>
        <p:spPr>
          <a:xfrm>
            <a:off x="3816360" y="5662440"/>
            <a:ext cx="1332000" cy="287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348000" y="5229360"/>
            <a:ext cx="4320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6"/>
          <p:cNvSpPr/>
          <p:nvPr/>
        </p:nvSpPr>
        <p:spPr>
          <a:xfrm flipH="1">
            <a:off x="3024360" y="5805360"/>
            <a:ext cx="7920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7"/>
          <p:cNvSpPr/>
          <p:nvPr/>
        </p:nvSpPr>
        <p:spPr>
          <a:xfrm>
            <a:off x="5688000" y="5049720"/>
            <a:ext cx="1368360" cy="90036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8"/>
          <p:cNvSpPr/>
          <p:nvPr/>
        </p:nvSpPr>
        <p:spPr>
          <a:xfrm>
            <a:off x="5148360" y="5192640"/>
            <a:ext cx="53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9"/>
          <p:cNvSpPr/>
          <p:nvPr/>
        </p:nvSpPr>
        <p:spPr>
          <a:xfrm flipH="1">
            <a:off x="5148000" y="5805360"/>
            <a:ext cx="53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0"/>
          <p:cNvSpPr/>
          <p:nvPr/>
        </p:nvSpPr>
        <p:spPr>
          <a:xfrm flipH="1">
            <a:off x="7056360" y="5769000"/>
            <a:ext cx="5400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2"/>
          <p:cNvSpPr/>
          <p:nvPr/>
        </p:nvSpPr>
        <p:spPr>
          <a:xfrm>
            <a:off x="7056360" y="5192640"/>
            <a:ext cx="5400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3"/>
          <p:cNvSpPr/>
          <p:nvPr/>
        </p:nvSpPr>
        <p:spPr>
          <a:xfrm>
            <a:off x="7380360" y="5049720"/>
            <a:ext cx="154764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AP requ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4"/>
          <p:cNvSpPr/>
          <p:nvPr/>
        </p:nvSpPr>
        <p:spPr>
          <a:xfrm>
            <a:off x="7380360" y="5589720"/>
            <a:ext cx="154764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AP rep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5"/>
          <p:cNvSpPr/>
          <p:nvPr/>
        </p:nvSpPr>
        <p:spPr>
          <a:xfrm>
            <a:off x="2987640" y="4581360"/>
            <a:ext cx="0" cy="287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14640" y="3370320"/>
            <a:ext cx="26812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583320" y="2946240"/>
            <a:ext cx="1908360" cy="2443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3720" y="2901960"/>
            <a:ext cx="1906560" cy="2443320"/>
          </a:xfrm>
          <a:prstGeom prst="rect">
            <a:avLst/>
          </a:prstGeom>
          <a:solidFill>
            <a:srgbClr val="ffe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"/>
          <p:cNvSpPr/>
          <p:nvPr/>
        </p:nvSpPr>
        <p:spPr>
          <a:xfrm>
            <a:off x="2954160" y="3276720"/>
            <a:ext cx="2948040" cy="296640"/>
          </a:xfrm>
          <a:custGeom>
            <a:avLst/>
            <a:gdLst/>
            <a:ahLst/>
            <a:rect l="l" t="t" r="r" b="b"/>
            <a:pathLst>
              <a:path w="2012" h="187">
                <a:moveTo>
                  <a:pt x="0" y="68"/>
                </a:moveTo>
                <a:lnTo>
                  <a:pt x="0" y="114"/>
                </a:lnTo>
                <a:lnTo>
                  <a:pt x="1825" y="114"/>
                </a:lnTo>
                <a:lnTo>
                  <a:pt x="1825" y="187"/>
                </a:lnTo>
                <a:lnTo>
                  <a:pt x="2012" y="93"/>
                </a:lnTo>
                <a:lnTo>
                  <a:pt x="1825" y="0"/>
                </a:lnTo>
                <a:lnTo>
                  <a:pt x="1825" y="71"/>
                </a:lnTo>
                <a:lnTo>
                  <a:pt x="0" y="68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838840" y="2514600"/>
            <a:ext cx="981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"/>
          <p:cNvSpPr/>
          <p:nvPr/>
        </p:nvSpPr>
        <p:spPr>
          <a:xfrm>
            <a:off x="5908680" y="3276720"/>
            <a:ext cx="977760" cy="239760"/>
          </a:xfrm>
          <a:custGeom>
            <a:avLst/>
            <a:gdLst/>
            <a:ahLst/>
            <a:rect l="l" t="t" r="r" b="b"/>
            <a:pathLst>
              <a:path w="668" h="151">
                <a:moveTo>
                  <a:pt x="150" y="91"/>
                </a:moveTo>
                <a:lnTo>
                  <a:pt x="668" y="91"/>
                </a:lnTo>
                <a:lnTo>
                  <a:pt x="668" y="60"/>
                </a:lnTo>
                <a:lnTo>
                  <a:pt x="150" y="60"/>
                </a:lnTo>
                <a:lnTo>
                  <a:pt x="145" y="45"/>
                </a:lnTo>
                <a:lnTo>
                  <a:pt x="138" y="33"/>
                </a:lnTo>
                <a:lnTo>
                  <a:pt x="128" y="21"/>
                </a:lnTo>
                <a:lnTo>
                  <a:pt x="118" y="13"/>
                </a:lnTo>
                <a:lnTo>
                  <a:pt x="105" y="7"/>
                </a:lnTo>
                <a:lnTo>
                  <a:pt x="90" y="2"/>
                </a:lnTo>
                <a:lnTo>
                  <a:pt x="75" y="0"/>
                </a:lnTo>
                <a:lnTo>
                  <a:pt x="60" y="2"/>
                </a:lnTo>
                <a:lnTo>
                  <a:pt x="45" y="7"/>
                </a:lnTo>
                <a:lnTo>
                  <a:pt x="33" y="13"/>
                </a:lnTo>
                <a:lnTo>
                  <a:pt x="22" y="21"/>
                </a:lnTo>
                <a:lnTo>
                  <a:pt x="13" y="33"/>
                </a:lnTo>
                <a:lnTo>
                  <a:pt x="7" y="45"/>
                </a:lnTo>
                <a:lnTo>
                  <a:pt x="2" y="60"/>
                </a:lnTo>
                <a:lnTo>
                  <a:pt x="0" y="75"/>
                </a:lnTo>
                <a:lnTo>
                  <a:pt x="2" y="90"/>
                </a:lnTo>
                <a:lnTo>
                  <a:pt x="7" y="105"/>
                </a:lnTo>
                <a:lnTo>
                  <a:pt x="13" y="118"/>
                </a:lnTo>
                <a:lnTo>
                  <a:pt x="22" y="128"/>
                </a:lnTo>
                <a:lnTo>
                  <a:pt x="33" y="138"/>
                </a:lnTo>
                <a:lnTo>
                  <a:pt x="45" y="144"/>
                </a:lnTo>
                <a:lnTo>
                  <a:pt x="60" y="149"/>
                </a:lnTo>
                <a:lnTo>
                  <a:pt x="75" y="151"/>
                </a:lnTo>
                <a:lnTo>
                  <a:pt x="90" y="149"/>
                </a:lnTo>
                <a:lnTo>
                  <a:pt x="105" y="144"/>
                </a:lnTo>
                <a:lnTo>
                  <a:pt x="118" y="138"/>
                </a:lnTo>
                <a:lnTo>
                  <a:pt x="128" y="128"/>
                </a:lnTo>
                <a:lnTo>
                  <a:pt x="138" y="118"/>
                </a:lnTo>
                <a:lnTo>
                  <a:pt x="145" y="105"/>
                </a:lnTo>
                <a:lnTo>
                  <a:pt x="150" y="9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9"/>
          <p:cNvSpPr/>
          <p:nvPr/>
        </p:nvSpPr>
        <p:spPr>
          <a:xfrm>
            <a:off x="3587760" y="3962520"/>
            <a:ext cx="2252520" cy="1314360"/>
          </a:xfrm>
          <a:custGeom>
            <a:avLst/>
            <a:gdLst/>
            <a:ahLst/>
            <a:rect l="l" t="t" r="r" b="b"/>
            <a:pathLst>
              <a:path w="1538" h="828">
                <a:moveTo>
                  <a:pt x="138" y="0"/>
                </a:moveTo>
                <a:lnTo>
                  <a:pt x="110" y="3"/>
                </a:lnTo>
                <a:lnTo>
                  <a:pt x="85" y="11"/>
                </a:lnTo>
                <a:lnTo>
                  <a:pt x="61" y="23"/>
                </a:lnTo>
                <a:lnTo>
                  <a:pt x="40" y="40"/>
                </a:lnTo>
                <a:lnTo>
                  <a:pt x="23" y="61"/>
                </a:lnTo>
                <a:lnTo>
                  <a:pt x="12" y="84"/>
                </a:lnTo>
                <a:lnTo>
                  <a:pt x="3" y="109"/>
                </a:lnTo>
                <a:lnTo>
                  <a:pt x="0" y="138"/>
                </a:lnTo>
                <a:lnTo>
                  <a:pt x="0" y="690"/>
                </a:lnTo>
                <a:lnTo>
                  <a:pt x="3" y="719"/>
                </a:lnTo>
                <a:lnTo>
                  <a:pt x="12" y="744"/>
                </a:lnTo>
                <a:lnTo>
                  <a:pt x="23" y="768"/>
                </a:lnTo>
                <a:lnTo>
                  <a:pt x="40" y="788"/>
                </a:lnTo>
                <a:lnTo>
                  <a:pt x="61" y="805"/>
                </a:lnTo>
                <a:lnTo>
                  <a:pt x="85" y="818"/>
                </a:lnTo>
                <a:lnTo>
                  <a:pt x="110" y="825"/>
                </a:lnTo>
                <a:lnTo>
                  <a:pt x="138" y="828"/>
                </a:lnTo>
                <a:lnTo>
                  <a:pt x="1400" y="828"/>
                </a:lnTo>
                <a:lnTo>
                  <a:pt x="1429" y="825"/>
                </a:lnTo>
                <a:lnTo>
                  <a:pt x="1453" y="818"/>
                </a:lnTo>
                <a:lnTo>
                  <a:pt x="1478" y="805"/>
                </a:lnTo>
                <a:lnTo>
                  <a:pt x="1498" y="788"/>
                </a:lnTo>
                <a:lnTo>
                  <a:pt x="1515" y="768"/>
                </a:lnTo>
                <a:lnTo>
                  <a:pt x="1528" y="744"/>
                </a:lnTo>
                <a:lnTo>
                  <a:pt x="1535" y="719"/>
                </a:lnTo>
                <a:lnTo>
                  <a:pt x="1538" y="690"/>
                </a:lnTo>
                <a:lnTo>
                  <a:pt x="1538" y="138"/>
                </a:lnTo>
                <a:lnTo>
                  <a:pt x="1535" y="109"/>
                </a:lnTo>
                <a:lnTo>
                  <a:pt x="1528" y="84"/>
                </a:lnTo>
                <a:lnTo>
                  <a:pt x="1515" y="61"/>
                </a:lnTo>
                <a:lnTo>
                  <a:pt x="1498" y="40"/>
                </a:lnTo>
                <a:lnTo>
                  <a:pt x="1478" y="23"/>
                </a:lnTo>
                <a:lnTo>
                  <a:pt x="1453" y="11"/>
                </a:lnTo>
                <a:lnTo>
                  <a:pt x="1429" y="3"/>
                </a:lnTo>
                <a:lnTo>
                  <a:pt x="1400" y="0"/>
                </a:lnTo>
                <a:lnTo>
                  <a:pt x="138" y="0"/>
                </a:lnTo>
                <a:close/>
              </a:path>
            </a:pathLst>
          </a:custGeom>
          <a:solidFill>
            <a:srgbClr val="f3a84d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7118280" y="4594320"/>
            <a:ext cx="873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1"/>
          <p:cNvSpPr/>
          <p:nvPr/>
        </p:nvSpPr>
        <p:spPr>
          <a:xfrm>
            <a:off x="6330960" y="4876920"/>
            <a:ext cx="631800" cy="239760"/>
          </a:xfrm>
          <a:custGeom>
            <a:avLst/>
            <a:gdLst/>
            <a:ahLst/>
            <a:rect l="l" t="t" r="r" b="b"/>
            <a:pathLst>
              <a:path w="432" h="151">
                <a:moveTo>
                  <a:pt x="149" y="92"/>
                </a:moveTo>
                <a:lnTo>
                  <a:pt x="432" y="92"/>
                </a:lnTo>
                <a:lnTo>
                  <a:pt x="432" y="60"/>
                </a:lnTo>
                <a:lnTo>
                  <a:pt x="149" y="60"/>
                </a:lnTo>
                <a:lnTo>
                  <a:pt x="144" y="45"/>
                </a:lnTo>
                <a:lnTo>
                  <a:pt x="138" y="33"/>
                </a:lnTo>
                <a:lnTo>
                  <a:pt x="128" y="22"/>
                </a:lnTo>
                <a:lnTo>
                  <a:pt x="118" y="13"/>
                </a:lnTo>
                <a:lnTo>
                  <a:pt x="105" y="7"/>
                </a:lnTo>
                <a:lnTo>
                  <a:pt x="90" y="2"/>
                </a:lnTo>
                <a:lnTo>
                  <a:pt x="75" y="0"/>
                </a:lnTo>
                <a:lnTo>
                  <a:pt x="60" y="2"/>
                </a:lnTo>
                <a:lnTo>
                  <a:pt x="45" y="7"/>
                </a:lnTo>
                <a:lnTo>
                  <a:pt x="33" y="13"/>
                </a:lnTo>
                <a:lnTo>
                  <a:pt x="21" y="22"/>
                </a:lnTo>
                <a:lnTo>
                  <a:pt x="13" y="33"/>
                </a:lnTo>
                <a:lnTo>
                  <a:pt x="7" y="45"/>
                </a:lnTo>
                <a:lnTo>
                  <a:pt x="2" y="60"/>
                </a:lnTo>
                <a:lnTo>
                  <a:pt x="0" y="75"/>
                </a:lnTo>
                <a:lnTo>
                  <a:pt x="2" y="90"/>
                </a:lnTo>
                <a:lnTo>
                  <a:pt x="7" y="105"/>
                </a:lnTo>
                <a:lnTo>
                  <a:pt x="13" y="118"/>
                </a:lnTo>
                <a:lnTo>
                  <a:pt x="21" y="128"/>
                </a:lnTo>
                <a:lnTo>
                  <a:pt x="33" y="138"/>
                </a:lnTo>
                <a:lnTo>
                  <a:pt x="45" y="145"/>
                </a:lnTo>
                <a:lnTo>
                  <a:pt x="60" y="150"/>
                </a:lnTo>
                <a:lnTo>
                  <a:pt x="75" y="151"/>
                </a:lnTo>
                <a:lnTo>
                  <a:pt x="90" y="150"/>
                </a:lnTo>
                <a:lnTo>
                  <a:pt x="105" y="145"/>
                </a:lnTo>
                <a:lnTo>
                  <a:pt x="118" y="138"/>
                </a:lnTo>
                <a:lnTo>
                  <a:pt x="128" y="128"/>
                </a:lnTo>
                <a:lnTo>
                  <a:pt x="138" y="118"/>
                </a:lnTo>
                <a:lnTo>
                  <a:pt x="144" y="105"/>
                </a:lnTo>
                <a:lnTo>
                  <a:pt x="149" y="92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6888240" y="4154400"/>
            <a:ext cx="1332000" cy="1001880"/>
            <a:chOff x="6888240" y="4154400"/>
            <a:chExt cx="1332000" cy="1001880"/>
          </a:xfrm>
        </p:grpSpPr>
        <p:sp>
          <p:nvSpPr>
            <p:cNvPr id="108" name="Rectangle 13"/>
            <p:cNvSpPr/>
            <p:nvPr/>
          </p:nvSpPr>
          <p:spPr>
            <a:xfrm>
              <a:off x="7869600" y="4154400"/>
              <a:ext cx="121680" cy="3128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"/>
            <p:cNvSpPr/>
            <p:nvPr/>
          </p:nvSpPr>
          <p:spPr>
            <a:xfrm>
              <a:off x="8042760" y="4154400"/>
              <a:ext cx="121680" cy="3128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6888240" y="4403880"/>
              <a:ext cx="1332000" cy="7524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6"/>
          <p:cNvSpPr/>
          <p:nvPr/>
        </p:nvSpPr>
        <p:spPr>
          <a:xfrm>
            <a:off x="7309440" y="4614840"/>
            <a:ext cx="64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1687680" y="4952880"/>
            <a:ext cx="15364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2039760" y="3809880"/>
            <a:ext cx="1532160" cy="1013040"/>
          </a:xfrm>
          <a:custGeom>
            <a:avLst/>
            <a:gdLst/>
            <a:ahLst/>
            <a:rect l="l" t="t" r="r" b="b"/>
            <a:pathLst>
              <a:path w="1046" h="638">
                <a:moveTo>
                  <a:pt x="860" y="522"/>
                </a:moveTo>
                <a:lnTo>
                  <a:pt x="772" y="512"/>
                </a:lnTo>
                <a:lnTo>
                  <a:pt x="691" y="499"/>
                </a:lnTo>
                <a:lnTo>
                  <a:pt x="613" y="480"/>
                </a:lnTo>
                <a:lnTo>
                  <a:pt x="535" y="459"/>
                </a:lnTo>
                <a:lnTo>
                  <a:pt x="461" y="432"/>
                </a:lnTo>
                <a:lnTo>
                  <a:pt x="392" y="404"/>
                </a:lnTo>
                <a:lnTo>
                  <a:pt x="329" y="372"/>
                </a:lnTo>
                <a:lnTo>
                  <a:pt x="274" y="339"/>
                </a:lnTo>
                <a:lnTo>
                  <a:pt x="222" y="304"/>
                </a:lnTo>
                <a:lnTo>
                  <a:pt x="174" y="264"/>
                </a:lnTo>
                <a:lnTo>
                  <a:pt x="152" y="243"/>
                </a:lnTo>
                <a:lnTo>
                  <a:pt x="133" y="221"/>
                </a:lnTo>
                <a:lnTo>
                  <a:pt x="114" y="200"/>
                </a:lnTo>
                <a:lnTo>
                  <a:pt x="99" y="178"/>
                </a:lnTo>
                <a:lnTo>
                  <a:pt x="88" y="161"/>
                </a:lnTo>
                <a:lnTo>
                  <a:pt x="76" y="138"/>
                </a:lnTo>
                <a:lnTo>
                  <a:pt x="64" y="115"/>
                </a:lnTo>
                <a:lnTo>
                  <a:pt x="54" y="92"/>
                </a:lnTo>
                <a:lnTo>
                  <a:pt x="48" y="67"/>
                </a:lnTo>
                <a:lnTo>
                  <a:pt x="45" y="50"/>
                </a:lnTo>
                <a:lnTo>
                  <a:pt x="41" y="25"/>
                </a:lnTo>
                <a:lnTo>
                  <a:pt x="41" y="0"/>
                </a:lnTo>
                <a:lnTo>
                  <a:pt x="0" y="0"/>
                </a:lnTo>
                <a:lnTo>
                  <a:pt x="0" y="25"/>
                </a:lnTo>
                <a:lnTo>
                  <a:pt x="3" y="50"/>
                </a:lnTo>
                <a:lnTo>
                  <a:pt x="5" y="59"/>
                </a:lnTo>
                <a:lnTo>
                  <a:pt x="10" y="83"/>
                </a:lnTo>
                <a:lnTo>
                  <a:pt x="16" y="108"/>
                </a:lnTo>
                <a:lnTo>
                  <a:pt x="26" y="132"/>
                </a:lnTo>
                <a:lnTo>
                  <a:pt x="38" y="155"/>
                </a:lnTo>
                <a:lnTo>
                  <a:pt x="49" y="178"/>
                </a:lnTo>
                <a:lnTo>
                  <a:pt x="64" y="201"/>
                </a:lnTo>
                <a:lnTo>
                  <a:pt x="69" y="208"/>
                </a:lnTo>
                <a:lnTo>
                  <a:pt x="84" y="230"/>
                </a:lnTo>
                <a:lnTo>
                  <a:pt x="103" y="251"/>
                </a:lnTo>
                <a:lnTo>
                  <a:pt x="123" y="273"/>
                </a:lnTo>
                <a:lnTo>
                  <a:pt x="144" y="294"/>
                </a:lnTo>
                <a:lnTo>
                  <a:pt x="192" y="334"/>
                </a:lnTo>
                <a:lnTo>
                  <a:pt x="246" y="371"/>
                </a:lnTo>
                <a:lnTo>
                  <a:pt x="252" y="376"/>
                </a:lnTo>
                <a:lnTo>
                  <a:pt x="312" y="411"/>
                </a:lnTo>
                <a:lnTo>
                  <a:pt x="375" y="442"/>
                </a:lnTo>
                <a:lnTo>
                  <a:pt x="445" y="470"/>
                </a:lnTo>
                <a:lnTo>
                  <a:pt x="518" y="497"/>
                </a:lnTo>
                <a:lnTo>
                  <a:pt x="596" y="518"/>
                </a:lnTo>
                <a:lnTo>
                  <a:pt x="679" y="537"/>
                </a:lnTo>
                <a:lnTo>
                  <a:pt x="687" y="538"/>
                </a:lnTo>
                <a:lnTo>
                  <a:pt x="772" y="553"/>
                </a:lnTo>
                <a:lnTo>
                  <a:pt x="859" y="563"/>
                </a:lnTo>
                <a:lnTo>
                  <a:pt x="855" y="638"/>
                </a:lnTo>
                <a:lnTo>
                  <a:pt x="1046" y="553"/>
                </a:lnTo>
                <a:lnTo>
                  <a:pt x="864" y="452"/>
                </a:lnTo>
                <a:lnTo>
                  <a:pt x="860" y="522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1687680" y="4952880"/>
            <a:ext cx="15364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4485960" y="403848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3708360" y="4280040"/>
            <a:ext cx="20844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3683520" y="4303800"/>
            <a:ext cx="147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Find the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3654000" y="4503600"/>
            <a:ext cx="22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Load DLL or launch 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3650040" y="4707000"/>
            <a:ext cx="212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Retrieve Class Fac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3651840" y="4917960"/>
            <a:ext cx="201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Ask Factory to cre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3708360" y="3090960"/>
            <a:ext cx="1970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3618000" y="3112920"/>
            <a:ext cx="214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Invoke request direct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1743120" y="3341520"/>
            <a:ext cx="869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7118280" y="3402000"/>
            <a:ext cx="873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004160" y="2590920"/>
            <a:ext cx="8697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7128720" y="261936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992160" y="4467240"/>
            <a:ext cx="150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925560" y="4498920"/>
            <a:ext cx="158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Create an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4"/>
          <p:cNvSpPr/>
          <p:nvPr/>
        </p:nvSpPr>
        <p:spPr>
          <a:xfrm>
            <a:off x="5767560" y="4495680"/>
            <a:ext cx="1098360" cy="298440"/>
          </a:xfrm>
          <a:custGeom>
            <a:avLst/>
            <a:gdLst/>
            <a:ahLst/>
            <a:rect l="l" t="t" r="r" b="b"/>
            <a:pathLst>
              <a:path w="749" h="188">
                <a:moveTo>
                  <a:pt x="2" y="68"/>
                </a:moveTo>
                <a:lnTo>
                  <a:pt x="0" y="115"/>
                </a:lnTo>
                <a:lnTo>
                  <a:pt x="563" y="115"/>
                </a:lnTo>
                <a:lnTo>
                  <a:pt x="563" y="188"/>
                </a:lnTo>
                <a:lnTo>
                  <a:pt x="749" y="93"/>
                </a:lnTo>
                <a:lnTo>
                  <a:pt x="563" y="0"/>
                </a:lnTo>
                <a:lnTo>
                  <a:pt x="563" y="72"/>
                </a:lnTo>
                <a:lnTo>
                  <a:pt x="2" y="68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5"/>
          <p:cNvSpPr/>
          <p:nvPr/>
        </p:nvSpPr>
        <p:spPr>
          <a:xfrm>
            <a:off x="5908680" y="3581280"/>
            <a:ext cx="977760" cy="239760"/>
          </a:xfrm>
          <a:custGeom>
            <a:avLst/>
            <a:gdLst/>
            <a:ahLst/>
            <a:rect l="l" t="t" r="r" b="b"/>
            <a:pathLst>
              <a:path w="668" h="151">
                <a:moveTo>
                  <a:pt x="150" y="91"/>
                </a:moveTo>
                <a:lnTo>
                  <a:pt x="668" y="91"/>
                </a:lnTo>
                <a:lnTo>
                  <a:pt x="668" y="60"/>
                </a:lnTo>
                <a:lnTo>
                  <a:pt x="150" y="60"/>
                </a:lnTo>
                <a:lnTo>
                  <a:pt x="145" y="45"/>
                </a:lnTo>
                <a:lnTo>
                  <a:pt x="138" y="33"/>
                </a:lnTo>
                <a:lnTo>
                  <a:pt x="128" y="21"/>
                </a:lnTo>
                <a:lnTo>
                  <a:pt x="118" y="13"/>
                </a:lnTo>
                <a:lnTo>
                  <a:pt x="105" y="7"/>
                </a:lnTo>
                <a:lnTo>
                  <a:pt x="90" y="2"/>
                </a:lnTo>
                <a:lnTo>
                  <a:pt x="75" y="0"/>
                </a:lnTo>
                <a:lnTo>
                  <a:pt x="60" y="2"/>
                </a:lnTo>
                <a:lnTo>
                  <a:pt x="45" y="7"/>
                </a:lnTo>
                <a:lnTo>
                  <a:pt x="33" y="13"/>
                </a:lnTo>
                <a:lnTo>
                  <a:pt x="22" y="21"/>
                </a:lnTo>
                <a:lnTo>
                  <a:pt x="13" y="33"/>
                </a:lnTo>
                <a:lnTo>
                  <a:pt x="7" y="45"/>
                </a:lnTo>
                <a:lnTo>
                  <a:pt x="2" y="60"/>
                </a:lnTo>
                <a:lnTo>
                  <a:pt x="0" y="75"/>
                </a:lnTo>
                <a:lnTo>
                  <a:pt x="2" y="90"/>
                </a:lnTo>
                <a:lnTo>
                  <a:pt x="7" y="105"/>
                </a:lnTo>
                <a:lnTo>
                  <a:pt x="13" y="118"/>
                </a:lnTo>
                <a:lnTo>
                  <a:pt x="22" y="128"/>
                </a:lnTo>
                <a:lnTo>
                  <a:pt x="33" y="138"/>
                </a:lnTo>
                <a:lnTo>
                  <a:pt x="45" y="144"/>
                </a:lnTo>
                <a:lnTo>
                  <a:pt x="60" y="149"/>
                </a:lnTo>
                <a:lnTo>
                  <a:pt x="75" y="151"/>
                </a:lnTo>
                <a:lnTo>
                  <a:pt x="90" y="149"/>
                </a:lnTo>
                <a:lnTo>
                  <a:pt x="105" y="144"/>
                </a:lnTo>
                <a:lnTo>
                  <a:pt x="118" y="138"/>
                </a:lnTo>
                <a:lnTo>
                  <a:pt x="128" y="128"/>
                </a:lnTo>
                <a:lnTo>
                  <a:pt x="138" y="118"/>
                </a:lnTo>
                <a:lnTo>
                  <a:pt x="145" y="105"/>
                </a:lnTo>
                <a:lnTo>
                  <a:pt x="150" y="9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6"/>
          <p:cNvGrpSpPr/>
          <p:nvPr/>
        </p:nvGrpSpPr>
        <p:grpSpPr>
          <a:xfrm>
            <a:off x="6831000" y="3152880"/>
            <a:ext cx="1544400" cy="668160"/>
            <a:chOff x="6831000" y="3152880"/>
            <a:chExt cx="1544400" cy="668160"/>
          </a:xfrm>
        </p:grpSpPr>
        <p:sp>
          <p:nvSpPr>
            <p:cNvPr id="132" name="Freeform 37"/>
            <p:cNvSpPr/>
            <p:nvPr/>
          </p:nvSpPr>
          <p:spPr>
            <a:xfrm>
              <a:off x="6870240" y="3197160"/>
              <a:ext cx="1505160" cy="623880"/>
            </a:xfrm>
            <a:custGeom>
              <a:avLst/>
              <a:gdLst/>
              <a:ahLst/>
              <a:rect l="l" t="t" r="r" b="b"/>
              <a:pathLst>
                <a:path w="1027" h="393">
                  <a:moveTo>
                    <a:pt x="66" y="0"/>
                  </a:moveTo>
                  <a:lnTo>
                    <a:pt x="53" y="2"/>
                  </a:lnTo>
                  <a:lnTo>
                    <a:pt x="41" y="5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12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6"/>
                  </a:lnTo>
                  <a:lnTo>
                    <a:pt x="0" y="329"/>
                  </a:lnTo>
                  <a:lnTo>
                    <a:pt x="2" y="342"/>
                  </a:lnTo>
                  <a:lnTo>
                    <a:pt x="5" y="354"/>
                  </a:lnTo>
                  <a:lnTo>
                    <a:pt x="12" y="365"/>
                  </a:lnTo>
                  <a:lnTo>
                    <a:pt x="20" y="375"/>
                  </a:lnTo>
                  <a:lnTo>
                    <a:pt x="30" y="382"/>
                  </a:lnTo>
                  <a:lnTo>
                    <a:pt x="41" y="388"/>
                  </a:lnTo>
                  <a:lnTo>
                    <a:pt x="53" y="392"/>
                  </a:lnTo>
                  <a:lnTo>
                    <a:pt x="66" y="393"/>
                  </a:lnTo>
                  <a:lnTo>
                    <a:pt x="960" y="393"/>
                  </a:lnTo>
                  <a:lnTo>
                    <a:pt x="973" y="392"/>
                  </a:lnTo>
                  <a:lnTo>
                    <a:pt x="987" y="388"/>
                  </a:lnTo>
                  <a:lnTo>
                    <a:pt x="997" y="382"/>
                  </a:lnTo>
                  <a:lnTo>
                    <a:pt x="1007" y="375"/>
                  </a:lnTo>
                  <a:lnTo>
                    <a:pt x="1015" y="365"/>
                  </a:lnTo>
                  <a:lnTo>
                    <a:pt x="1022" y="354"/>
                  </a:lnTo>
                  <a:lnTo>
                    <a:pt x="1025" y="342"/>
                  </a:lnTo>
                  <a:lnTo>
                    <a:pt x="1027" y="329"/>
                  </a:lnTo>
                  <a:lnTo>
                    <a:pt x="1027" y="66"/>
                  </a:lnTo>
                  <a:lnTo>
                    <a:pt x="1025" y="53"/>
                  </a:lnTo>
                  <a:lnTo>
                    <a:pt x="1022" y="41"/>
                  </a:lnTo>
                  <a:lnTo>
                    <a:pt x="1015" y="30"/>
                  </a:lnTo>
                  <a:lnTo>
                    <a:pt x="1007" y="20"/>
                  </a:lnTo>
                  <a:lnTo>
                    <a:pt x="997" y="12"/>
                  </a:lnTo>
                  <a:lnTo>
                    <a:pt x="987" y="5"/>
                  </a:lnTo>
                  <a:lnTo>
                    <a:pt x="973" y="2"/>
                  </a:lnTo>
                  <a:lnTo>
                    <a:pt x="96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6831000" y="3152880"/>
              <a:ext cx="1501920" cy="627120"/>
            </a:xfrm>
            <a:custGeom>
              <a:avLst/>
              <a:gdLst/>
              <a:ahLst/>
              <a:rect l="l" t="t" r="r" b="b"/>
              <a:pathLst>
                <a:path w="1025" h="395">
                  <a:moveTo>
                    <a:pt x="65" y="0"/>
                  </a:moveTo>
                  <a:lnTo>
                    <a:pt x="52" y="1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20"/>
                  </a:lnTo>
                  <a:lnTo>
                    <a:pt x="12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6"/>
                  </a:lnTo>
                  <a:lnTo>
                    <a:pt x="0" y="328"/>
                  </a:lnTo>
                  <a:lnTo>
                    <a:pt x="2" y="342"/>
                  </a:lnTo>
                  <a:lnTo>
                    <a:pt x="5" y="355"/>
                  </a:lnTo>
                  <a:lnTo>
                    <a:pt x="12" y="365"/>
                  </a:lnTo>
                  <a:lnTo>
                    <a:pt x="19" y="375"/>
                  </a:lnTo>
                  <a:lnTo>
                    <a:pt x="29" y="383"/>
                  </a:lnTo>
                  <a:lnTo>
                    <a:pt x="40" y="390"/>
                  </a:lnTo>
                  <a:lnTo>
                    <a:pt x="52" y="393"/>
                  </a:lnTo>
                  <a:lnTo>
                    <a:pt x="65" y="395"/>
                  </a:lnTo>
                  <a:lnTo>
                    <a:pt x="961" y="395"/>
                  </a:lnTo>
                  <a:lnTo>
                    <a:pt x="974" y="393"/>
                  </a:lnTo>
                  <a:lnTo>
                    <a:pt x="986" y="390"/>
                  </a:lnTo>
                  <a:lnTo>
                    <a:pt x="997" y="383"/>
                  </a:lnTo>
                  <a:lnTo>
                    <a:pt x="1005" y="375"/>
                  </a:lnTo>
                  <a:lnTo>
                    <a:pt x="1014" y="365"/>
                  </a:lnTo>
                  <a:lnTo>
                    <a:pt x="1020" y="355"/>
                  </a:lnTo>
                  <a:lnTo>
                    <a:pt x="1024" y="342"/>
                  </a:lnTo>
                  <a:lnTo>
                    <a:pt x="1025" y="328"/>
                  </a:lnTo>
                  <a:lnTo>
                    <a:pt x="1025" y="66"/>
                  </a:lnTo>
                  <a:lnTo>
                    <a:pt x="1024" y="53"/>
                  </a:lnTo>
                  <a:lnTo>
                    <a:pt x="1020" y="41"/>
                  </a:lnTo>
                  <a:lnTo>
                    <a:pt x="1014" y="30"/>
                  </a:lnTo>
                  <a:lnTo>
                    <a:pt x="1005" y="20"/>
                  </a:lnTo>
                  <a:lnTo>
                    <a:pt x="997" y="11"/>
                  </a:lnTo>
                  <a:lnTo>
                    <a:pt x="986" y="5"/>
                  </a:lnTo>
                  <a:lnTo>
                    <a:pt x="974" y="1"/>
                  </a:lnTo>
                  <a:lnTo>
                    <a:pt x="961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3a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39"/>
          <p:cNvSpPr/>
          <p:nvPr/>
        </p:nvSpPr>
        <p:spPr>
          <a:xfrm>
            <a:off x="7311960" y="3425760"/>
            <a:ext cx="55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0"/>
          <p:cNvGrpSpPr/>
          <p:nvPr/>
        </p:nvGrpSpPr>
        <p:grpSpPr>
          <a:xfrm>
            <a:off x="1397160" y="3029040"/>
            <a:ext cx="1659960" cy="792000"/>
            <a:chOff x="1397160" y="3029040"/>
            <a:chExt cx="1659960" cy="792000"/>
          </a:xfrm>
        </p:grpSpPr>
        <p:sp>
          <p:nvSpPr>
            <p:cNvPr id="136" name="Freeform 41"/>
            <p:cNvSpPr/>
            <p:nvPr/>
          </p:nvSpPr>
          <p:spPr>
            <a:xfrm>
              <a:off x="1438200" y="3070080"/>
              <a:ext cx="1618920" cy="750960"/>
            </a:xfrm>
            <a:custGeom>
              <a:avLst/>
              <a:gdLst/>
              <a:ahLst/>
              <a:rect l="l" t="t" r="r" b="b"/>
              <a:pathLst>
                <a:path w="1105" h="473">
                  <a:moveTo>
                    <a:pt x="78" y="0"/>
                  </a:moveTo>
                  <a:lnTo>
                    <a:pt x="63" y="2"/>
                  </a:lnTo>
                  <a:lnTo>
                    <a:pt x="48" y="7"/>
                  </a:lnTo>
                  <a:lnTo>
                    <a:pt x="35" y="13"/>
                  </a:lnTo>
                  <a:lnTo>
                    <a:pt x="23" y="23"/>
                  </a:lnTo>
                  <a:lnTo>
                    <a:pt x="13" y="35"/>
                  </a:lnTo>
                  <a:lnTo>
                    <a:pt x="7" y="50"/>
                  </a:lnTo>
                  <a:lnTo>
                    <a:pt x="2" y="65"/>
                  </a:lnTo>
                  <a:lnTo>
                    <a:pt x="0" y="80"/>
                  </a:lnTo>
                  <a:lnTo>
                    <a:pt x="0" y="395"/>
                  </a:lnTo>
                  <a:lnTo>
                    <a:pt x="2" y="412"/>
                  </a:lnTo>
                  <a:lnTo>
                    <a:pt x="7" y="425"/>
                  </a:lnTo>
                  <a:lnTo>
                    <a:pt x="13" y="439"/>
                  </a:lnTo>
                  <a:lnTo>
                    <a:pt x="23" y="450"/>
                  </a:lnTo>
                  <a:lnTo>
                    <a:pt x="35" y="460"/>
                  </a:lnTo>
                  <a:lnTo>
                    <a:pt x="48" y="467"/>
                  </a:lnTo>
                  <a:lnTo>
                    <a:pt x="63" y="472"/>
                  </a:lnTo>
                  <a:lnTo>
                    <a:pt x="78" y="473"/>
                  </a:lnTo>
                  <a:lnTo>
                    <a:pt x="1025" y="473"/>
                  </a:lnTo>
                  <a:lnTo>
                    <a:pt x="1042" y="472"/>
                  </a:lnTo>
                  <a:lnTo>
                    <a:pt x="1057" y="467"/>
                  </a:lnTo>
                  <a:lnTo>
                    <a:pt x="1070" y="460"/>
                  </a:lnTo>
                  <a:lnTo>
                    <a:pt x="1081" y="450"/>
                  </a:lnTo>
                  <a:lnTo>
                    <a:pt x="1091" y="439"/>
                  </a:lnTo>
                  <a:lnTo>
                    <a:pt x="1098" y="425"/>
                  </a:lnTo>
                  <a:lnTo>
                    <a:pt x="1103" y="412"/>
                  </a:lnTo>
                  <a:lnTo>
                    <a:pt x="1105" y="395"/>
                  </a:lnTo>
                  <a:lnTo>
                    <a:pt x="1105" y="80"/>
                  </a:lnTo>
                  <a:lnTo>
                    <a:pt x="1103" y="65"/>
                  </a:lnTo>
                  <a:lnTo>
                    <a:pt x="1098" y="50"/>
                  </a:lnTo>
                  <a:lnTo>
                    <a:pt x="1091" y="35"/>
                  </a:lnTo>
                  <a:lnTo>
                    <a:pt x="1081" y="23"/>
                  </a:lnTo>
                  <a:lnTo>
                    <a:pt x="1070" y="13"/>
                  </a:lnTo>
                  <a:lnTo>
                    <a:pt x="1057" y="7"/>
                  </a:lnTo>
                  <a:lnTo>
                    <a:pt x="1042" y="2"/>
                  </a:lnTo>
                  <a:lnTo>
                    <a:pt x="1025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2"/>
            <p:cNvSpPr/>
            <p:nvPr/>
          </p:nvSpPr>
          <p:spPr>
            <a:xfrm>
              <a:off x="1397160" y="3029040"/>
              <a:ext cx="1617480" cy="750960"/>
            </a:xfrm>
            <a:custGeom>
              <a:avLst/>
              <a:gdLst/>
              <a:ahLst/>
              <a:rect l="l" t="t" r="r" b="b"/>
              <a:pathLst>
                <a:path w="1104" h="473">
                  <a:moveTo>
                    <a:pt x="79" y="0"/>
                  </a:moveTo>
                  <a:lnTo>
                    <a:pt x="63" y="1"/>
                  </a:lnTo>
                  <a:lnTo>
                    <a:pt x="48" y="6"/>
                  </a:lnTo>
                  <a:lnTo>
                    <a:pt x="35" y="13"/>
                  </a:lnTo>
                  <a:lnTo>
                    <a:pt x="23" y="23"/>
                  </a:lnTo>
                  <a:lnTo>
                    <a:pt x="13" y="34"/>
                  </a:lnTo>
                  <a:lnTo>
                    <a:pt x="6" y="48"/>
                  </a:lnTo>
                  <a:lnTo>
                    <a:pt x="1" y="63"/>
                  </a:lnTo>
                  <a:lnTo>
                    <a:pt x="0" y="78"/>
                  </a:lnTo>
                  <a:lnTo>
                    <a:pt x="0" y="393"/>
                  </a:lnTo>
                  <a:lnTo>
                    <a:pt x="1" y="410"/>
                  </a:lnTo>
                  <a:lnTo>
                    <a:pt x="6" y="425"/>
                  </a:lnTo>
                  <a:lnTo>
                    <a:pt x="13" y="438"/>
                  </a:lnTo>
                  <a:lnTo>
                    <a:pt x="23" y="450"/>
                  </a:lnTo>
                  <a:lnTo>
                    <a:pt x="35" y="460"/>
                  </a:lnTo>
                  <a:lnTo>
                    <a:pt x="48" y="466"/>
                  </a:lnTo>
                  <a:lnTo>
                    <a:pt x="63" y="471"/>
                  </a:lnTo>
                  <a:lnTo>
                    <a:pt x="79" y="473"/>
                  </a:lnTo>
                  <a:lnTo>
                    <a:pt x="1026" y="473"/>
                  </a:lnTo>
                  <a:lnTo>
                    <a:pt x="1043" y="471"/>
                  </a:lnTo>
                  <a:lnTo>
                    <a:pt x="1056" y="466"/>
                  </a:lnTo>
                  <a:lnTo>
                    <a:pt x="1070" y="460"/>
                  </a:lnTo>
                  <a:lnTo>
                    <a:pt x="1081" y="450"/>
                  </a:lnTo>
                  <a:lnTo>
                    <a:pt x="1091" y="438"/>
                  </a:lnTo>
                  <a:lnTo>
                    <a:pt x="1098" y="425"/>
                  </a:lnTo>
                  <a:lnTo>
                    <a:pt x="1103" y="410"/>
                  </a:lnTo>
                  <a:lnTo>
                    <a:pt x="1104" y="393"/>
                  </a:lnTo>
                  <a:lnTo>
                    <a:pt x="1104" y="78"/>
                  </a:lnTo>
                  <a:lnTo>
                    <a:pt x="1103" y="63"/>
                  </a:lnTo>
                  <a:lnTo>
                    <a:pt x="1098" y="48"/>
                  </a:lnTo>
                  <a:lnTo>
                    <a:pt x="1091" y="34"/>
                  </a:lnTo>
                  <a:lnTo>
                    <a:pt x="1081" y="23"/>
                  </a:lnTo>
                  <a:lnTo>
                    <a:pt x="1070" y="13"/>
                  </a:lnTo>
                  <a:lnTo>
                    <a:pt x="1056" y="6"/>
                  </a:lnTo>
                  <a:lnTo>
                    <a:pt x="1043" y="1"/>
                  </a:lnTo>
                  <a:lnTo>
                    <a:pt x="1026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3a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43"/>
          <p:cNvSpPr/>
          <p:nvPr/>
        </p:nvSpPr>
        <p:spPr>
          <a:xfrm>
            <a:off x="1949040" y="32767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44"/>
          <p:cNvSpPr/>
          <p:nvPr/>
        </p:nvSpPr>
        <p:spPr>
          <a:xfrm>
            <a:off x="5627520" y="4876920"/>
            <a:ext cx="692280" cy="298440"/>
          </a:xfrm>
          <a:custGeom>
            <a:avLst/>
            <a:gdLst/>
            <a:ahLst/>
            <a:rect l="l" t="t" r="r" b="b"/>
            <a:pathLst>
              <a:path w="473" h="188">
                <a:moveTo>
                  <a:pt x="0" y="73"/>
                </a:moveTo>
                <a:lnTo>
                  <a:pt x="0" y="114"/>
                </a:lnTo>
                <a:lnTo>
                  <a:pt x="287" y="113"/>
                </a:lnTo>
                <a:lnTo>
                  <a:pt x="287" y="188"/>
                </a:lnTo>
                <a:lnTo>
                  <a:pt x="473" y="93"/>
                </a:lnTo>
                <a:lnTo>
                  <a:pt x="287" y="0"/>
                </a:lnTo>
                <a:lnTo>
                  <a:pt x="287" y="71"/>
                </a:lnTo>
                <a:lnTo>
                  <a:pt x="0" y="73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rver-side SO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7315200" y="63118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5292720" y="1700280"/>
            <a:ext cx="719280" cy="50472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6227640" y="1700280"/>
            <a:ext cx="719280" cy="504720"/>
          </a:xfrm>
          <a:prstGeom prst="foldedCorner">
            <a:avLst>
              <a:gd name="adj" fmla="val 125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S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5148360" y="2384280"/>
            <a:ext cx="2052720" cy="611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DLR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seRequest | load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4032360" y="3968640"/>
            <a:ext cx="3492360" cy="57636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DLOperation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eOperation | GetOperationParts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4"/>
          <p:cNvGrpSpPr/>
          <p:nvPr/>
        </p:nvGrpSpPr>
        <p:grpSpPr>
          <a:xfrm>
            <a:off x="4103640" y="2313000"/>
            <a:ext cx="900000" cy="611280"/>
            <a:chOff x="4103640" y="2313000"/>
            <a:chExt cx="900000" cy="611280"/>
          </a:xfrm>
        </p:grpSpPr>
        <p:sp>
          <p:nvSpPr>
            <p:cNvPr id="471" name="AutoShape 3"/>
            <p:cNvSpPr/>
            <p:nvPr/>
          </p:nvSpPr>
          <p:spPr>
            <a:xfrm>
              <a:off x="4238640" y="234972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9"/>
            <p:cNvSpPr/>
            <p:nvPr/>
          </p:nvSpPr>
          <p:spPr>
            <a:xfrm>
              <a:off x="4427280" y="231300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0"/>
            <p:cNvSpPr/>
            <p:nvPr/>
          </p:nvSpPr>
          <p:spPr>
            <a:xfrm>
              <a:off x="4751280" y="252900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1"/>
            <p:cNvSpPr/>
            <p:nvPr/>
          </p:nvSpPr>
          <p:spPr>
            <a:xfrm>
              <a:off x="4427280" y="256392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2"/>
            <p:cNvSpPr/>
            <p:nvPr/>
          </p:nvSpPr>
          <p:spPr>
            <a:xfrm>
              <a:off x="4895640" y="281628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13"/>
            <p:cNvSpPr/>
            <p:nvPr/>
          </p:nvSpPr>
          <p:spPr>
            <a:xfrm>
              <a:off x="4211640" y="256392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14"/>
            <p:cNvSpPr/>
            <p:nvPr/>
          </p:nvSpPr>
          <p:spPr>
            <a:xfrm>
              <a:off x="4103640" y="281628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15"/>
            <p:cNvSpPr/>
            <p:nvPr/>
          </p:nvSpPr>
          <p:spPr>
            <a:xfrm>
              <a:off x="4354560" y="281628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4498920" y="2421000"/>
              <a:ext cx="0" cy="142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4498920" y="2421000"/>
              <a:ext cx="252360" cy="142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4822920" y="2637000"/>
              <a:ext cx="107640" cy="179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9"/>
            <p:cNvSpPr/>
            <p:nvPr/>
          </p:nvSpPr>
          <p:spPr>
            <a:xfrm flipV="1">
              <a:off x="4282920" y="2420640"/>
              <a:ext cx="144360" cy="142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0"/>
            <p:cNvSpPr/>
            <p:nvPr/>
          </p:nvSpPr>
          <p:spPr>
            <a:xfrm flipV="1">
              <a:off x="4174920" y="2671560"/>
              <a:ext cx="7164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1"/>
            <p:cNvSpPr/>
            <p:nvPr/>
          </p:nvSpPr>
          <p:spPr>
            <a:xfrm>
              <a:off x="4282920" y="2671920"/>
              <a:ext cx="7164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Rectangle 22"/>
          <p:cNvSpPr/>
          <p:nvPr/>
        </p:nvSpPr>
        <p:spPr>
          <a:xfrm>
            <a:off x="5580000" y="4941720"/>
            <a:ext cx="720720" cy="68436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.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5472000" y="5122800"/>
            <a:ext cx="720720" cy="68436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.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4"/>
          <p:cNvSpPr/>
          <p:nvPr/>
        </p:nvSpPr>
        <p:spPr>
          <a:xfrm>
            <a:off x="5256360" y="5373720"/>
            <a:ext cx="720720" cy="68436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.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5"/>
          <p:cNvSpPr/>
          <p:nvPr/>
        </p:nvSpPr>
        <p:spPr>
          <a:xfrm>
            <a:off x="7704000" y="5084640"/>
            <a:ext cx="100836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(3, 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6"/>
          <p:cNvSpPr/>
          <p:nvPr/>
        </p:nvSpPr>
        <p:spPr>
          <a:xfrm>
            <a:off x="7704000" y="5661000"/>
            <a:ext cx="100836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5616720" y="2205000"/>
            <a:ext cx="0" cy="142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6624720" y="2205000"/>
            <a:ext cx="0" cy="179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1"/>
          <p:cNvSpPr/>
          <p:nvPr/>
        </p:nvSpPr>
        <p:spPr>
          <a:xfrm>
            <a:off x="2843280" y="5553000"/>
            <a:ext cx="1332000" cy="287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ializ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3"/>
          <p:cNvSpPr/>
          <p:nvPr/>
        </p:nvSpPr>
        <p:spPr>
          <a:xfrm flipV="1">
            <a:off x="6300720" y="5300640"/>
            <a:ext cx="1403280" cy="1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4"/>
          <p:cNvSpPr/>
          <p:nvPr/>
        </p:nvSpPr>
        <p:spPr>
          <a:xfrm flipH="1">
            <a:off x="5976720" y="5877000"/>
            <a:ext cx="1726920" cy="1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0"/>
          <p:cNvSpPr/>
          <p:nvPr/>
        </p:nvSpPr>
        <p:spPr>
          <a:xfrm>
            <a:off x="395280" y="2421000"/>
            <a:ext cx="144000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AP requ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1"/>
          <p:cNvSpPr/>
          <p:nvPr/>
        </p:nvSpPr>
        <p:spPr>
          <a:xfrm>
            <a:off x="395280" y="5521320"/>
            <a:ext cx="1440000" cy="35748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AP rep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2"/>
          <p:cNvSpPr/>
          <p:nvPr/>
        </p:nvSpPr>
        <p:spPr>
          <a:xfrm>
            <a:off x="5940360" y="465444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3"/>
          <p:cNvSpPr/>
          <p:nvPr/>
        </p:nvSpPr>
        <p:spPr>
          <a:xfrm>
            <a:off x="2195640" y="2313000"/>
            <a:ext cx="1728720" cy="611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apR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ad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45"/>
          <p:cNvGrpSpPr/>
          <p:nvPr/>
        </p:nvGrpSpPr>
        <p:grpSpPr>
          <a:xfrm>
            <a:off x="5724360" y="3176640"/>
            <a:ext cx="900000" cy="611280"/>
            <a:chOff x="5724360" y="3176640"/>
            <a:chExt cx="900000" cy="611280"/>
          </a:xfrm>
        </p:grpSpPr>
        <p:sp>
          <p:nvSpPr>
            <p:cNvPr id="500" name="AutoShape 46"/>
            <p:cNvSpPr/>
            <p:nvPr/>
          </p:nvSpPr>
          <p:spPr>
            <a:xfrm>
              <a:off x="5859360" y="321336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7"/>
            <p:cNvSpPr/>
            <p:nvPr/>
          </p:nvSpPr>
          <p:spPr>
            <a:xfrm>
              <a:off x="6048000" y="317664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48"/>
            <p:cNvSpPr/>
            <p:nvPr/>
          </p:nvSpPr>
          <p:spPr>
            <a:xfrm>
              <a:off x="6372000" y="339264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49"/>
            <p:cNvSpPr/>
            <p:nvPr/>
          </p:nvSpPr>
          <p:spPr>
            <a:xfrm>
              <a:off x="6048000" y="342756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0"/>
            <p:cNvSpPr/>
            <p:nvPr/>
          </p:nvSpPr>
          <p:spPr>
            <a:xfrm>
              <a:off x="6516360" y="367992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51"/>
            <p:cNvSpPr/>
            <p:nvPr/>
          </p:nvSpPr>
          <p:spPr>
            <a:xfrm>
              <a:off x="5832360" y="342756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52"/>
            <p:cNvSpPr/>
            <p:nvPr/>
          </p:nvSpPr>
          <p:spPr>
            <a:xfrm>
              <a:off x="5724360" y="367992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53"/>
            <p:cNvSpPr/>
            <p:nvPr/>
          </p:nvSpPr>
          <p:spPr>
            <a:xfrm>
              <a:off x="5975280" y="3679920"/>
              <a:ext cx="108000" cy="108000"/>
            </a:xfrm>
            <a:prstGeom prst="flowChartConnector">
              <a:avLst/>
            </a:pr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4"/>
            <p:cNvSpPr/>
            <p:nvPr/>
          </p:nvSpPr>
          <p:spPr>
            <a:xfrm>
              <a:off x="6119640" y="3284640"/>
              <a:ext cx="0" cy="142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55"/>
            <p:cNvSpPr/>
            <p:nvPr/>
          </p:nvSpPr>
          <p:spPr>
            <a:xfrm>
              <a:off x="6119640" y="3284640"/>
              <a:ext cx="252360" cy="142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56"/>
            <p:cNvSpPr/>
            <p:nvPr/>
          </p:nvSpPr>
          <p:spPr>
            <a:xfrm>
              <a:off x="6443640" y="3500640"/>
              <a:ext cx="107640" cy="179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7"/>
            <p:cNvSpPr/>
            <p:nvPr/>
          </p:nvSpPr>
          <p:spPr>
            <a:xfrm flipV="1">
              <a:off x="5903640" y="3284280"/>
              <a:ext cx="144360" cy="142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58"/>
            <p:cNvSpPr/>
            <p:nvPr/>
          </p:nvSpPr>
          <p:spPr>
            <a:xfrm flipV="1">
              <a:off x="5795640" y="3535200"/>
              <a:ext cx="7164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59"/>
            <p:cNvSpPr/>
            <p:nvPr/>
          </p:nvSpPr>
          <p:spPr>
            <a:xfrm>
              <a:off x="5903640" y="3535560"/>
              <a:ext cx="7164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Line 60"/>
          <p:cNvSpPr/>
          <p:nvPr/>
        </p:nvSpPr>
        <p:spPr>
          <a:xfrm>
            <a:off x="3851280" y="2600280"/>
            <a:ext cx="3240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1"/>
          <p:cNvSpPr/>
          <p:nvPr/>
        </p:nvSpPr>
        <p:spPr>
          <a:xfrm flipV="1">
            <a:off x="4932360" y="2634840"/>
            <a:ext cx="216000" cy="1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62"/>
          <p:cNvSpPr/>
          <p:nvPr/>
        </p:nvSpPr>
        <p:spPr>
          <a:xfrm>
            <a:off x="1800360" y="2600280"/>
            <a:ext cx="3585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3"/>
          <p:cNvSpPr/>
          <p:nvPr/>
        </p:nvSpPr>
        <p:spPr>
          <a:xfrm flipH="1">
            <a:off x="1800000" y="5697360"/>
            <a:ext cx="10429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4"/>
          <p:cNvSpPr/>
          <p:nvPr/>
        </p:nvSpPr>
        <p:spPr>
          <a:xfrm flipH="1">
            <a:off x="4140360" y="5697360"/>
            <a:ext cx="11160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lection in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AP proxy perform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Invoke(m, new object[] {arg1, arg2}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AP message dispatche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ses 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s parameter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s object reques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tiates 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s  requested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es method with built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lection: Apache SO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440" y="16984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 requests addressed t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:8080//soap/servlet/rpcrouter/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let perfor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Call c = extractCallFromEnvelope(ServiceManager sm, Envelope e, SOAPContext ct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Response </a:t>
            </a:r>
            <a:r>
              <a:rPr b="1" lang="en-US" sz="2000" spc="-1" strike="noStrike">
                <a:solidFill>
                  <a:srgbClr val="ff0033"/>
                </a:solidFill>
                <a:latin typeface="Lucida Sans Typewriter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(DeploymentDescriptor dd, Call c, Object o, SOAPContext reqCtx, SOAPContext resCtx) {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m = MethodUtils.</a:t>
            </a:r>
            <a:r>
              <a:rPr b="1" lang="en-US" sz="1800" spc="-1" strike="noStrike">
                <a:solidFill>
                  <a:srgbClr val="ff0033"/>
                </a:solidFill>
                <a:latin typeface="Lucida Sans Typewriter"/>
              </a:rPr>
              <a:t>getMethod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(o, call.getMethodName(), argTypes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retur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 new Bean(m.</a:t>
            </a:r>
            <a:r>
              <a:rPr b="1" lang="en-US" sz="1800" spc="-1" strike="noStrike">
                <a:solidFill>
                  <a:srgbClr val="ff0033"/>
                </a:solidFill>
                <a:latin typeface="Lucida Sans Typewriter"/>
              </a:rPr>
              <a:t>getReturnType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(), </a:t>
            </a:r>
            <a:r>
              <a:rPr b="1" lang="en-US" sz="1800" spc="-1" strike="noStrike">
                <a:solidFill>
                  <a:srgbClr val="ff0033"/>
                </a:solidFill>
                <a:latin typeface="Lucida Sans Typewriter"/>
              </a:rPr>
              <a:t>m.invoke</a:t>
            </a: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(o, args)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ta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ction extracts metadata (no need for separate type libra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es: turned into metadata stored within I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data accessible at run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attributes can be defined, for program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(*fun)(int, cha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f = someFunctio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3,’a’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Function(3,’a’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(fun f, void* args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arg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(args.lentgh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: return f(args[0]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2: return f(args[0], args[1]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e of 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a high performance search eng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way to store and retrieve objects from relational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reflection to serialize 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before .NET: template meta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41440" y="3943440"/>
            <a:ext cx="2209680" cy="1430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 Por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395280" y="1873080"/>
            <a:ext cx="2057400" cy="1419480"/>
          </a:xfrm>
          <a:prstGeom prst="rect">
            <a:avLst/>
          </a:prstGeom>
          <a:ln w="0">
            <a:noFill/>
          </a:ln>
        </p:spPr>
      </p:pic>
      <p:cxnSp>
        <p:nvCxnSpPr>
          <p:cNvPr id="531" name="AutoShape 5"/>
          <p:cNvCxnSpPr>
            <a:stCxn id="529" idx="0"/>
            <a:endCxn id="529" idx="0"/>
          </p:cNvCxnSpPr>
          <p:nvPr/>
        </p:nvCxnSpPr>
        <p:spPr>
          <a:xfrm flipH="1" rot="16200000">
            <a:off x="1646280" y="394308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0">
            <a:noFill/>
          </a:ln>
        </p:spPr>
      </p:cxnSp>
      <p:sp>
        <p:nvSpPr>
          <p:cNvPr id="532" name="Line 6"/>
          <p:cNvSpPr/>
          <p:nvPr/>
        </p:nvSpPr>
        <p:spPr>
          <a:xfrm>
            <a:off x="2827440" y="6157800"/>
            <a:ext cx="2361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AutoShape 8"/>
          <p:cNvCxnSpPr/>
          <p:nvPr/>
        </p:nvCxnSpPr>
        <p:spPr>
          <a:xfrm flipH="1">
            <a:off x="1645920" y="2365200"/>
            <a:ext cx="800640" cy="1424880"/>
          </a:xfrm>
          <a:prstGeom prst="curvedConnector5">
            <a:avLst>
              <a:gd name="adj1" fmla="val -28565"/>
              <a:gd name="adj2" fmla="val 37452"/>
              <a:gd name="adj3" fmla="val -28565"/>
            </a:avLst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4" name="AutoShape 9"/>
          <p:cNvSpPr/>
          <p:nvPr/>
        </p:nvSpPr>
        <p:spPr>
          <a:xfrm>
            <a:off x="3059280" y="2211480"/>
            <a:ext cx="1657080" cy="1008000"/>
          </a:xfrm>
          <a:prstGeom prst="borderCallout1">
            <a:avLst>
              <a:gd name="adj1" fmla="val 18750"/>
              <a:gd name="adj2" fmla="val -8333"/>
              <a:gd name="adj3" fmla="val 96064"/>
              <a:gd name="adj4" fmla="val -2777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s title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3894120" y="3795840"/>
            <a:ext cx="2514600" cy="1741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4884480" y="4862520"/>
            <a:ext cx="685800" cy="609480"/>
            <a:chOff x="4884480" y="4862520"/>
            <a:chExt cx="685800" cy="609480"/>
          </a:xfrm>
        </p:grpSpPr>
        <p:sp>
          <p:nvSpPr>
            <p:cNvPr id="537" name="Gear"/>
            <p:cNvSpPr/>
            <p:nvPr/>
          </p:nvSpPr>
          <p:spPr>
            <a:xfrm flipH="1">
              <a:off x="4884120" y="4862520"/>
              <a:ext cx="304920" cy="279360"/>
            </a:xfrm>
            <a:custGeom>
              <a:avLst/>
              <a:gdLst>
                <a:gd name="textAreaLeft" fmla="*/ 61560 w 304920"/>
                <a:gd name="textAreaRight" fmla="*/ 252000 w 304920"/>
                <a:gd name="textAreaTop" fmla="*/ 51120 h 279360"/>
                <a:gd name="textAreaBottom" fmla="*/ 2282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3"/>
            <p:cNvSpPr/>
            <p:nvPr/>
          </p:nvSpPr>
          <p:spPr>
            <a:xfrm flipH="1">
              <a:off x="5205240" y="4978440"/>
              <a:ext cx="365040" cy="333360"/>
            </a:xfrm>
            <a:custGeom>
              <a:avLst/>
              <a:gdLst>
                <a:gd name="textAreaLeft" fmla="*/ 74160 w 365040"/>
                <a:gd name="textAreaRight" fmla="*/ 302040 w 365040"/>
                <a:gd name="textAreaTop" fmla="*/ 60840 h 333360"/>
                <a:gd name="textAreaBottom" fmla="*/ 2725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4"/>
            <p:cNvSpPr/>
            <p:nvPr/>
          </p:nvSpPr>
          <p:spPr>
            <a:xfrm flipH="1">
              <a:off x="4926960" y="5100480"/>
              <a:ext cx="406440" cy="371520"/>
            </a:xfrm>
            <a:custGeom>
              <a:avLst/>
              <a:gdLst>
                <a:gd name="textAreaLeft" fmla="*/ 82080 w 406440"/>
                <a:gd name="textAreaRight" fmla="*/ 335880 w 406440"/>
                <a:gd name="textAreaTop" fmla="*/ 68040 h 371520"/>
                <a:gd name="textAreaBottom" fmla="*/ 30348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5"/>
          <p:cNvGrpSpPr/>
          <p:nvPr/>
        </p:nvGrpSpPr>
        <p:grpSpPr>
          <a:xfrm>
            <a:off x="3513240" y="4862520"/>
            <a:ext cx="380160" cy="152280"/>
            <a:chOff x="3513240" y="4862520"/>
            <a:chExt cx="380160" cy="152280"/>
          </a:xfrm>
        </p:grpSpPr>
        <p:sp>
          <p:nvSpPr>
            <p:cNvPr id="541" name="Line 16"/>
            <p:cNvSpPr/>
            <p:nvPr/>
          </p:nvSpPr>
          <p:spPr>
            <a:xfrm flipH="1">
              <a:off x="3607920" y="493848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7"/>
            <p:cNvSpPr/>
            <p:nvPr/>
          </p:nvSpPr>
          <p:spPr>
            <a:xfrm>
              <a:off x="3513240" y="4862520"/>
              <a:ext cx="142560" cy="152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18"/>
          <p:cNvSpPr/>
          <p:nvPr/>
        </p:nvSpPr>
        <p:spPr>
          <a:xfrm>
            <a:off x="3779280" y="41004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9"/>
          <p:cNvGrpSpPr/>
          <p:nvPr/>
        </p:nvGrpSpPr>
        <p:grpSpPr>
          <a:xfrm>
            <a:off x="3513240" y="4557600"/>
            <a:ext cx="380160" cy="152640"/>
            <a:chOff x="3513240" y="4557600"/>
            <a:chExt cx="380160" cy="152640"/>
          </a:xfrm>
        </p:grpSpPr>
        <p:sp>
          <p:nvSpPr>
            <p:cNvPr id="545" name="Line 20"/>
            <p:cNvSpPr/>
            <p:nvPr/>
          </p:nvSpPr>
          <p:spPr>
            <a:xfrm flipH="1">
              <a:off x="3607920" y="463392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3513240" y="4557600"/>
              <a:ext cx="142560" cy="152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7" name="AutoShape 23"/>
          <p:cNvCxnSpPr/>
          <p:nvPr/>
        </p:nvCxnSpPr>
        <p:spPr>
          <a:xfrm>
            <a:off x="2751120" y="4467240"/>
            <a:ext cx="783360" cy="475200"/>
          </a:xfrm>
          <a:prstGeom prst="curvedConnector5">
            <a:avLst>
              <a:gd name="adj1" fmla="val 49885"/>
              <a:gd name="adj2" fmla="val 49962"/>
              <a:gd name="adj3" fmla="val 49885"/>
            </a:avLst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8" name="AutoShape 24"/>
          <p:cNvSpPr/>
          <p:nvPr/>
        </p:nvSpPr>
        <p:spPr>
          <a:xfrm>
            <a:off x="541440" y="5700600"/>
            <a:ext cx="1828800" cy="897120"/>
          </a:xfrm>
          <a:prstGeom prst="borderCallout1">
            <a:avLst>
              <a:gd name="adj1" fmla="val 18750"/>
              <a:gd name="adj2" fmla="val -8333"/>
              <a:gd name="adj3" fmla="val -144777"/>
              <a:gd name="adj4" fmla="val 123439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invok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6"/>
          <p:cNvSpPr/>
          <p:nvPr/>
        </p:nvSpPr>
        <p:spPr>
          <a:xfrm>
            <a:off x="7628040" y="2062080"/>
            <a:ext cx="1143000" cy="7430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JInterpo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27"/>
          <p:cNvGrpSpPr/>
          <p:nvPr/>
        </p:nvGrpSpPr>
        <p:grpSpPr>
          <a:xfrm>
            <a:off x="7246800" y="2405160"/>
            <a:ext cx="380880" cy="114120"/>
            <a:chOff x="7246800" y="2405160"/>
            <a:chExt cx="380880" cy="114120"/>
          </a:xfrm>
        </p:grpSpPr>
        <p:sp>
          <p:nvSpPr>
            <p:cNvPr id="551" name="Line 28"/>
            <p:cNvSpPr/>
            <p:nvPr/>
          </p:nvSpPr>
          <p:spPr>
            <a:xfrm flipH="1">
              <a:off x="7341840" y="24620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29"/>
            <p:cNvSpPr/>
            <p:nvPr/>
          </p:nvSpPr>
          <p:spPr>
            <a:xfrm>
              <a:off x="7246800" y="2405160"/>
              <a:ext cx="142920" cy="11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0"/>
          <p:cNvGrpSpPr/>
          <p:nvPr/>
        </p:nvGrpSpPr>
        <p:grpSpPr>
          <a:xfrm>
            <a:off x="7246800" y="2176560"/>
            <a:ext cx="380880" cy="114120"/>
            <a:chOff x="7246800" y="2176560"/>
            <a:chExt cx="380880" cy="114120"/>
          </a:xfrm>
        </p:grpSpPr>
        <p:sp>
          <p:nvSpPr>
            <p:cNvPr id="554" name="Line 31"/>
            <p:cNvSpPr/>
            <p:nvPr/>
          </p:nvSpPr>
          <p:spPr>
            <a:xfrm flipH="1">
              <a:off x="7341840" y="22334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2"/>
            <p:cNvSpPr/>
            <p:nvPr/>
          </p:nvSpPr>
          <p:spPr>
            <a:xfrm>
              <a:off x="7246800" y="2176560"/>
              <a:ext cx="142920" cy="11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ctangle 34"/>
          <p:cNvSpPr/>
          <p:nvPr/>
        </p:nvSpPr>
        <p:spPr>
          <a:xfrm>
            <a:off x="7648560" y="3286080"/>
            <a:ext cx="1122480" cy="79056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adViny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5"/>
          <p:cNvGrpSpPr/>
          <p:nvPr/>
        </p:nvGrpSpPr>
        <p:grpSpPr>
          <a:xfrm>
            <a:off x="7246800" y="3651120"/>
            <a:ext cx="401040" cy="120960"/>
            <a:chOff x="7246800" y="3651120"/>
            <a:chExt cx="401040" cy="120960"/>
          </a:xfrm>
        </p:grpSpPr>
        <p:sp>
          <p:nvSpPr>
            <p:cNvPr id="558" name="Line 36"/>
            <p:cNvSpPr/>
            <p:nvPr/>
          </p:nvSpPr>
          <p:spPr>
            <a:xfrm flipH="1">
              <a:off x="7346520" y="3711600"/>
              <a:ext cx="30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7246800" y="3651120"/>
              <a:ext cx="150480" cy="1209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8"/>
          <p:cNvGrpSpPr/>
          <p:nvPr/>
        </p:nvGrpSpPr>
        <p:grpSpPr>
          <a:xfrm>
            <a:off x="7246800" y="3408480"/>
            <a:ext cx="401040" cy="120600"/>
            <a:chOff x="7246800" y="3408480"/>
            <a:chExt cx="401040" cy="120600"/>
          </a:xfrm>
        </p:grpSpPr>
        <p:sp>
          <p:nvSpPr>
            <p:cNvPr id="561" name="Line 39"/>
            <p:cNvSpPr/>
            <p:nvPr/>
          </p:nvSpPr>
          <p:spPr>
            <a:xfrm flipH="1">
              <a:off x="7346520" y="3468600"/>
              <a:ext cx="30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7246800" y="3408480"/>
              <a:ext cx="150480" cy="120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42"/>
          <p:cNvSpPr/>
          <p:nvPr/>
        </p:nvSpPr>
        <p:spPr>
          <a:xfrm>
            <a:off x="7616880" y="4581360"/>
            <a:ext cx="1143000" cy="75276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kFac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7236000" y="4929120"/>
            <a:ext cx="380160" cy="115920"/>
            <a:chOff x="7236000" y="4929120"/>
            <a:chExt cx="380160" cy="115920"/>
          </a:xfrm>
        </p:grpSpPr>
        <p:sp>
          <p:nvSpPr>
            <p:cNvPr id="565" name="Line 44"/>
            <p:cNvSpPr/>
            <p:nvPr/>
          </p:nvSpPr>
          <p:spPr>
            <a:xfrm flipH="1">
              <a:off x="7330680" y="498816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45"/>
            <p:cNvSpPr/>
            <p:nvPr/>
          </p:nvSpPr>
          <p:spPr>
            <a:xfrm>
              <a:off x="7236000" y="4929120"/>
              <a:ext cx="142560" cy="115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7236000" y="4697280"/>
            <a:ext cx="380160" cy="115920"/>
            <a:chOff x="7236000" y="4697280"/>
            <a:chExt cx="380160" cy="115920"/>
          </a:xfrm>
        </p:grpSpPr>
        <p:sp>
          <p:nvSpPr>
            <p:cNvPr id="568" name="Line 47"/>
            <p:cNvSpPr/>
            <p:nvPr/>
          </p:nvSpPr>
          <p:spPr>
            <a:xfrm flipH="1">
              <a:off x="7330680" y="475632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8"/>
            <p:cNvSpPr/>
            <p:nvPr/>
          </p:nvSpPr>
          <p:spPr>
            <a:xfrm>
              <a:off x="7236000" y="4697280"/>
              <a:ext cx="142560" cy="115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AutoShape 50"/>
          <p:cNvSpPr/>
          <p:nvPr/>
        </p:nvSpPr>
        <p:spPr>
          <a:xfrm>
            <a:off x="3780000" y="5705640"/>
            <a:ext cx="2239920" cy="892080"/>
          </a:xfrm>
          <a:prstGeom prst="borderCallout1">
            <a:avLst>
              <a:gd name="adj1" fmla="val 18750"/>
              <a:gd name="adj2" fmla="val -8333"/>
              <a:gd name="adj3" fmla="val -69750"/>
              <a:gd name="adj4" fmla="val 117648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Broker invokes search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AutoShape 51"/>
          <p:cNvCxnSpPr/>
          <p:nvPr/>
        </p:nvCxnSpPr>
        <p:spPr>
          <a:xfrm flipV="1">
            <a:off x="6408720" y="4992120"/>
            <a:ext cx="859680" cy="99000"/>
          </a:xfrm>
          <a:prstGeom prst="curvedConnector2">
            <a:avLst/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2" name="AutoShape 52"/>
          <p:cNvCxnSpPr/>
          <p:nvPr/>
        </p:nvCxnSpPr>
        <p:spPr>
          <a:xfrm flipV="1">
            <a:off x="6408720" y="3696840"/>
            <a:ext cx="861120" cy="1394640"/>
          </a:xfrm>
          <a:prstGeom prst="curvedConnector2">
            <a:avLst/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3" name="AutoShape 53"/>
          <p:cNvCxnSpPr/>
          <p:nvPr/>
        </p:nvCxnSpPr>
        <p:spPr>
          <a:xfrm flipV="1">
            <a:off x="6408360" y="2424240"/>
            <a:ext cx="910440" cy="2667240"/>
          </a:xfrm>
          <a:prstGeom prst="curvedConnector2">
            <a:avLst/>
          </a:prstGeom>
          <a:ln w="255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4" name="AutoShape 54"/>
          <p:cNvSpPr/>
          <p:nvPr/>
        </p:nvSpPr>
        <p:spPr>
          <a:xfrm>
            <a:off x="7018200" y="5548320"/>
            <a:ext cx="1801800" cy="1049400"/>
          </a:xfrm>
          <a:prstGeom prst="borderCallout1">
            <a:avLst>
              <a:gd name="adj1" fmla="val 18750"/>
              <a:gd name="adj2" fmla="val -8333"/>
              <a:gd name="adj3" fmla="val -42662"/>
              <a:gd name="adj4" fmla="val -31189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 respond with search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ployment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Objects (.N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698480"/>
            <a:ext cx="798984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class cre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class loa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ed for interactive SQL interpr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ich Interactiv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riginal Web 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 but weak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real-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produ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intera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 cannot initiate 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r pull: waste bandwid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, ActiveX: maintainability and security restri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3"/>
          <p:cNvSpPr/>
          <p:nvPr/>
        </p:nvSpPr>
        <p:spPr>
          <a:xfrm>
            <a:off x="3971880" y="1946160"/>
            <a:ext cx="1709640" cy="2830680"/>
          </a:xfrm>
          <a:custGeom>
            <a:avLst/>
            <a:gdLst/>
            <a:ahLst/>
            <a:rect l="l" t="t" r="r" b="b"/>
            <a:pathLst>
              <a:path w="1166" h="1783">
                <a:moveTo>
                  <a:pt x="195" y="0"/>
                </a:moveTo>
                <a:lnTo>
                  <a:pt x="175" y="2"/>
                </a:lnTo>
                <a:lnTo>
                  <a:pt x="156" y="5"/>
                </a:lnTo>
                <a:lnTo>
                  <a:pt x="137" y="9"/>
                </a:lnTo>
                <a:lnTo>
                  <a:pt x="118" y="16"/>
                </a:lnTo>
                <a:lnTo>
                  <a:pt x="101" y="23"/>
                </a:lnTo>
                <a:lnTo>
                  <a:pt x="85" y="34"/>
                </a:lnTo>
                <a:lnTo>
                  <a:pt x="71" y="45"/>
                </a:lnTo>
                <a:lnTo>
                  <a:pt x="56" y="58"/>
                </a:lnTo>
                <a:lnTo>
                  <a:pt x="45" y="71"/>
                </a:lnTo>
                <a:lnTo>
                  <a:pt x="33" y="87"/>
                </a:lnTo>
                <a:lnTo>
                  <a:pt x="23" y="103"/>
                </a:lnTo>
                <a:lnTo>
                  <a:pt x="16" y="120"/>
                </a:lnTo>
                <a:lnTo>
                  <a:pt x="9" y="138"/>
                </a:lnTo>
                <a:lnTo>
                  <a:pt x="4" y="156"/>
                </a:lnTo>
                <a:lnTo>
                  <a:pt x="1" y="175"/>
                </a:lnTo>
                <a:lnTo>
                  <a:pt x="0" y="195"/>
                </a:lnTo>
                <a:lnTo>
                  <a:pt x="0" y="1590"/>
                </a:lnTo>
                <a:lnTo>
                  <a:pt x="1" y="1610"/>
                </a:lnTo>
                <a:lnTo>
                  <a:pt x="4" y="1629"/>
                </a:lnTo>
                <a:lnTo>
                  <a:pt x="9" y="1648"/>
                </a:lnTo>
                <a:lnTo>
                  <a:pt x="16" y="1665"/>
                </a:lnTo>
                <a:lnTo>
                  <a:pt x="23" y="1682"/>
                </a:lnTo>
                <a:lnTo>
                  <a:pt x="33" y="1698"/>
                </a:lnTo>
                <a:lnTo>
                  <a:pt x="45" y="1713"/>
                </a:lnTo>
                <a:lnTo>
                  <a:pt x="56" y="1727"/>
                </a:lnTo>
                <a:lnTo>
                  <a:pt x="71" y="1739"/>
                </a:lnTo>
                <a:lnTo>
                  <a:pt x="85" y="1750"/>
                </a:lnTo>
                <a:lnTo>
                  <a:pt x="101" y="1760"/>
                </a:lnTo>
                <a:lnTo>
                  <a:pt x="118" y="1769"/>
                </a:lnTo>
                <a:lnTo>
                  <a:pt x="137" y="1775"/>
                </a:lnTo>
                <a:lnTo>
                  <a:pt x="156" y="1779"/>
                </a:lnTo>
                <a:lnTo>
                  <a:pt x="175" y="1782"/>
                </a:lnTo>
                <a:lnTo>
                  <a:pt x="195" y="1783"/>
                </a:lnTo>
                <a:lnTo>
                  <a:pt x="971" y="1783"/>
                </a:lnTo>
                <a:lnTo>
                  <a:pt x="992" y="1782"/>
                </a:lnTo>
                <a:lnTo>
                  <a:pt x="1010" y="1779"/>
                </a:lnTo>
                <a:lnTo>
                  <a:pt x="1029" y="1775"/>
                </a:lnTo>
                <a:lnTo>
                  <a:pt x="1047" y="1769"/>
                </a:lnTo>
                <a:lnTo>
                  <a:pt x="1064" y="1760"/>
                </a:lnTo>
                <a:lnTo>
                  <a:pt x="1080" y="1750"/>
                </a:lnTo>
                <a:lnTo>
                  <a:pt x="1096" y="1739"/>
                </a:lnTo>
                <a:lnTo>
                  <a:pt x="1109" y="1727"/>
                </a:lnTo>
                <a:lnTo>
                  <a:pt x="1122" y="1713"/>
                </a:lnTo>
                <a:lnTo>
                  <a:pt x="1133" y="1698"/>
                </a:lnTo>
                <a:lnTo>
                  <a:pt x="1143" y="1682"/>
                </a:lnTo>
                <a:lnTo>
                  <a:pt x="1151" y="1665"/>
                </a:lnTo>
                <a:lnTo>
                  <a:pt x="1158" y="1648"/>
                </a:lnTo>
                <a:lnTo>
                  <a:pt x="1162" y="1629"/>
                </a:lnTo>
                <a:lnTo>
                  <a:pt x="1165" y="1610"/>
                </a:lnTo>
                <a:lnTo>
                  <a:pt x="1166" y="1590"/>
                </a:lnTo>
                <a:lnTo>
                  <a:pt x="1166" y="195"/>
                </a:lnTo>
                <a:lnTo>
                  <a:pt x="1165" y="175"/>
                </a:lnTo>
                <a:lnTo>
                  <a:pt x="1162" y="156"/>
                </a:lnTo>
                <a:lnTo>
                  <a:pt x="1158" y="138"/>
                </a:lnTo>
                <a:lnTo>
                  <a:pt x="1151" y="120"/>
                </a:lnTo>
                <a:lnTo>
                  <a:pt x="1143" y="103"/>
                </a:lnTo>
                <a:lnTo>
                  <a:pt x="1133" y="87"/>
                </a:lnTo>
                <a:lnTo>
                  <a:pt x="1122" y="71"/>
                </a:lnTo>
                <a:lnTo>
                  <a:pt x="1109" y="58"/>
                </a:lnTo>
                <a:lnTo>
                  <a:pt x="1096" y="45"/>
                </a:lnTo>
                <a:lnTo>
                  <a:pt x="1080" y="34"/>
                </a:lnTo>
                <a:lnTo>
                  <a:pt x="1064" y="23"/>
                </a:lnTo>
                <a:lnTo>
                  <a:pt x="1047" y="16"/>
                </a:lnTo>
                <a:lnTo>
                  <a:pt x="1029" y="9"/>
                </a:lnTo>
                <a:lnTo>
                  <a:pt x="1010" y="5"/>
                </a:lnTo>
                <a:lnTo>
                  <a:pt x="992" y="2"/>
                </a:lnTo>
                <a:lnTo>
                  <a:pt x="971" y="0"/>
                </a:lnTo>
                <a:lnTo>
                  <a:pt x="195" y="0"/>
                </a:lnTo>
                <a:close/>
              </a:path>
            </a:pathLst>
          </a:custGeom>
          <a:solidFill>
            <a:srgbClr val="f3a84d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58760" y="4124160"/>
            <a:ext cx="1656000" cy="2124360"/>
          </a:xfrm>
          <a:prstGeom prst="rect">
            <a:avLst/>
          </a:prstGeom>
          <a:solidFill>
            <a:srgbClr val="ffe1c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5837400" y="5545080"/>
            <a:ext cx="596520" cy="208080"/>
            <a:chOff x="5837400" y="5545080"/>
            <a:chExt cx="596520" cy="208080"/>
          </a:xfrm>
        </p:grpSpPr>
        <p:sp>
          <p:nvSpPr>
            <p:cNvPr id="144" name="Rectangle 6"/>
            <p:cNvSpPr/>
            <p:nvPr/>
          </p:nvSpPr>
          <p:spPr>
            <a:xfrm>
              <a:off x="5932440" y="5627520"/>
              <a:ext cx="501480" cy="44640"/>
            </a:xfrm>
            <a:prstGeom prst="rect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5837400" y="5545080"/>
              <a:ext cx="191520" cy="208080"/>
            </a:xfrm>
            <a:prstGeom prst="ellipse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6434280" y="5430960"/>
            <a:ext cx="1004760" cy="817560"/>
          </a:xfrm>
          <a:custGeom>
            <a:avLst/>
            <a:gdLst/>
            <a:ahLst/>
            <a:rect l="l" t="t" r="r" b="b"/>
            <a:pathLst>
              <a:path w="686" h="515">
                <a:moveTo>
                  <a:pt x="86" y="0"/>
                </a:moveTo>
                <a:lnTo>
                  <a:pt x="68" y="1"/>
                </a:lnTo>
                <a:lnTo>
                  <a:pt x="52" y="7"/>
                </a:lnTo>
                <a:lnTo>
                  <a:pt x="38" y="14"/>
                </a:lnTo>
                <a:lnTo>
                  <a:pt x="26" y="26"/>
                </a:lnTo>
                <a:lnTo>
                  <a:pt x="15" y="39"/>
                </a:lnTo>
                <a:lnTo>
                  <a:pt x="8" y="53"/>
                </a:lnTo>
                <a:lnTo>
                  <a:pt x="2" y="69"/>
                </a:lnTo>
                <a:lnTo>
                  <a:pt x="0" y="87"/>
                </a:lnTo>
                <a:lnTo>
                  <a:pt x="0" y="429"/>
                </a:lnTo>
                <a:lnTo>
                  <a:pt x="2" y="446"/>
                </a:lnTo>
                <a:lnTo>
                  <a:pt x="8" y="462"/>
                </a:lnTo>
                <a:lnTo>
                  <a:pt x="15" y="478"/>
                </a:lnTo>
                <a:lnTo>
                  <a:pt x="26" y="489"/>
                </a:lnTo>
                <a:lnTo>
                  <a:pt x="38" y="501"/>
                </a:lnTo>
                <a:lnTo>
                  <a:pt x="52" y="508"/>
                </a:lnTo>
                <a:lnTo>
                  <a:pt x="68" y="514"/>
                </a:lnTo>
                <a:lnTo>
                  <a:pt x="86" y="515"/>
                </a:lnTo>
                <a:lnTo>
                  <a:pt x="601" y="515"/>
                </a:lnTo>
                <a:lnTo>
                  <a:pt x="618" y="514"/>
                </a:lnTo>
                <a:lnTo>
                  <a:pt x="634" y="508"/>
                </a:lnTo>
                <a:lnTo>
                  <a:pt x="649" y="501"/>
                </a:lnTo>
                <a:lnTo>
                  <a:pt x="662" y="489"/>
                </a:lnTo>
                <a:lnTo>
                  <a:pt x="672" y="478"/>
                </a:lnTo>
                <a:lnTo>
                  <a:pt x="679" y="462"/>
                </a:lnTo>
                <a:lnTo>
                  <a:pt x="685" y="446"/>
                </a:lnTo>
                <a:lnTo>
                  <a:pt x="686" y="429"/>
                </a:lnTo>
                <a:lnTo>
                  <a:pt x="686" y="87"/>
                </a:lnTo>
                <a:lnTo>
                  <a:pt x="685" y="69"/>
                </a:lnTo>
                <a:lnTo>
                  <a:pt x="679" y="53"/>
                </a:lnTo>
                <a:lnTo>
                  <a:pt x="672" y="39"/>
                </a:lnTo>
                <a:lnTo>
                  <a:pt x="662" y="26"/>
                </a:lnTo>
                <a:lnTo>
                  <a:pt x="649" y="14"/>
                </a:lnTo>
                <a:lnTo>
                  <a:pt x="634" y="7"/>
                </a:lnTo>
                <a:lnTo>
                  <a:pt x="618" y="1"/>
                </a:lnTo>
                <a:lnTo>
                  <a:pt x="601" y="0"/>
                </a:lnTo>
                <a:lnTo>
                  <a:pt x="86" y="0"/>
                </a:lnTo>
                <a:close/>
              </a:path>
            </a:pathLst>
          </a:custGeom>
          <a:solidFill>
            <a:srgbClr val="f3a84d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5908680" y="3886200"/>
            <a:ext cx="1155600" cy="869760"/>
            <a:chOff x="5908680" y="3886200"/>
            <a:chExt cx="1155600" cy="869760"/>
          </a:xfrm>
        </p:grpSpPr>
        <p:sp>
          <p:nvSpPr>
            <p:cNvPr id="148" name="Rectangle 10"/>
            <p:cNvSpPr/>
            <p:nvPr/>
          </p:nvSpPr>
          <p:spPr>
            <a:xfrm>
              <a:off x="6759360" y="3886200"/>
              <a:ext cx="106920" cy="2714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6909120" y="3886200"/>
              <a:ext cx="108000" cy="271440"/>
            </a:xfrm>
            <a:custGeom>
              <a:avLst/>
              <a:gdLst/>
              <a:ahLst/>
              <a:rect l="l" t="t" r="r" b="b"/>
              <a:pathLst>
                <a:path w="74" h="171">
                  <a:moveTo>
                    <a:pt x="72" y="0"/>
                  </a:moveTo>
                  <a:lnTo>
                    <a:pt x="0" y="0"/>
                  </a:lnTo>
                  <a:lnTo>
                    <a:pt x="2" y="171"/>
                  </a:lnTo>
                  <a:lnTo>
                    <a:pt x="74" y="17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5908680" y="4103640"/>
              <a:ext cx="1155600" cy="652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3"/>
          <p:cNvSpPr/>
          <p:nvPr/>
        </p:nvSpPr>
        <p:spPr>
          <a:xfrm>
            <a:off x="6303240" y="425448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281280" y="443880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cto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5837400" y="5979960"/>
            <a:ext cx="596520" cy="209880"/>
            <a:chOff x="5837400" y="5979960"/>
            <a:chExt cx="596520" cy="209880"/>
          </a:xfrm>
        </p:grpSpPr>
        <p:sp>
          <p:nvSpPr>
            <p:cNvPr id="154" name="Rectangle 16"/>
            <p:cNvSpPr/>
            <p:nvPr/>
          </p:nvSpPr>
          <p:spPr>
            <a:xfrm>
              <a:off x="5932440" y="6062760"/>
              <a:ext cx="501480" cy="44280"/>
            </a:xfrm>
            <a:prstGeom prst="rect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5837400" y="5979960"/>
              <a:ext cx="191520" cy="209880"/>
            </a:xfrm>
            <a:prstGeom prst="ellipse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8"/>
          <p:cNvSpPr/>
          <p:nvPr/>
        </p:nvSpPr>
        <p:spPr>
          <a:xfrm>
            <a:off x="6534000" y="5813280"/>
            <a:ext cx="7574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6568560" y="583236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5528880" y="167652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1375200" y="1708200"/>
            <a:ext cx="84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5781960" y="53960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5641560" y="5832360"/>
            <a:ext cx="72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4"/>
          <p:cNvGrpSpPr/>
          <p:nvPr/>
        </p:nvGrpSpPr>
        <p:grpSpPr>
          <a:xfrm>
            <a:off x="3978360" y="5545080"/>
            <a:ext cx="596520" cy="208080"/>
            <a:chOff x="3978360" y="5545080"/>
            <a:chExt cx="596520" cy="208080"/>
          </a:xfrm>
        </p:grpSpPr>
        <p:sp>
          <p:nvSpPr>
            <p:cNvPr id="163" name="Rectangle 25"/>
            <p:cNvSpPr/>
            <p:nvPr/>
          </p:nvSpPr>
          <p:spPr>
            <a:xfrm>
              <a:off x="4073760" y="5627520"/>
              <a:ext cx="501120" cy="44640"/>
            </a:xfrm>
            <a:prstGeom prst="rect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6"/>
            <p:cNvSpPr/>
            <p:nvPr/>
          </p:nvSpPr>
          <p:spPr>
            <a:xfrm>
              <a:off x="3978360" y="5545080"/>
              <a:ext cx="193320" cy="208080"/>
            </a:xfrm>
            <a:prstGeom prst="ellipse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Freeform 27"/>
          <p:cNvSpPr/>
          <p:nvPr/>
        </p:nvSpPr>
        <p:spPr>
          <a:xfrm>
            <a:off x="4575240" y="5430960"/>
            <a:ext cx="1004760" cy="817560"/>
          </a:xfrm>
          <a:custGeom>
            <a:avLst/>
            <a:gdLst/>
            <a:ahLst/>
            <a:rect l="l" t="t" r="r" b="b"/>
            <a:pathLst>
              <a:path w="686" h="515">
                <a:moveTo>
                  <a:pt x="87" y="0"/>
                </a:moveTo>
                <a:lnTo>
                  <a:pt x="70" y="1"/>
                </a:lnTo>
                <a:lnTo>
                  <a:pt x="54" y="7"/>
                </a:lnTo>
                <a:lnTo>
                  <a:pt x="39" y="14"/>
                </a:lnTo>
                <a:lnTo>
                  <a:pt x="26" y="26"/>
                </a:lnTo>
                <a:lnTo>
                  <a:pt x="15" y="39"/>
                </a:lnTo>
                <a:lnTo>
                  <a:pt x="8" y="53"/>
                </a:lnTo>
                <a:lnTo>
                  <a:pt x="2" y="69"/>
                </a:lnTo>
                <a:lnTo>
                  <a:pt x="0" y="87"/>
                </a:lnTo>
                <a:lnTo>
                  <a:pt x="0" y="429"/>
                </a:lnTo>
                <a:lnTo>
                  <a:pt x="2" y="446"/>
                </a:lnTo>
                <a:lnTo>
                  <a:pt x="8" y="462"/>
                </a:lnTo>
                <a:lnTo>
                  <a:pt x="15" y="478"/>
                </a:lnTo>
                <a:lnTo>
                  <a:pt x="26" y="489"/>
                </a:lnTo>
                <a:lnTo>
                  <a:pt x="39" y="501"/>
                </a:lnTo>
                <a:lnTo>
                  <a:pt x="54" y="508"/>
                </a:lnTo>
                <a:lnTo>
                  <a:pt x="70" y="514"/>
                </a:lnTo>
                <a:lnTo>
                  <a:pt x="87" y="515"/>
                </a:lnTo>
                <a:lnTo>
                  <a:pt x="601" y="515"/>
                </a:lnTo>
                <a:lnTo>
                  <a:pt x="618" y="514"/>
                </a:lnTo>
                <a:lnTo>
                  <a:pt x="634" y="508"/>
                </a:lnTo>
                <a:lnTo>
                  <a:pt x="649" y="501"/>
                </a:lnTo>
                <a:lnTo>
                  <a:pt x="662" y="489"/>
                </a:lnTo>
                <a:lnTo>
                  <a:pt x="672" y="478"/>
                </a:lnTo>
                <a:lnTo>
                  <a:pt x="679" y="462"/>
                </a:lnTo>
                <a:lnTo>
                  <a:pt x="685" y="446"/>
                </a:lnTo>
                <a:lnTo>
                  <a:pt x="686" y="429"/>
                </a:lnTo>
                <a:lnTo>
                  <a:pt x="686" y="87"/>
                </a:lnTo>
                <a:lnTo>
                  <a:pt x="685" y="69"/>
                </a:lnTo>
                <a:lnTo>
                  <a:pt x="679" y="53"/>
                </a:lnTo>
                <a:lnTo>
                  <a:pt x="672" y="39"/>
                </a:lnTo>
                <a:lnTo>
                  <a:pt x="662" y="26"/>
                </a:lnTo>
                <a:lnTo>
                  <a:pt x="649" y="14"/>
                </a:lnTo>
                <a:lnTo>
                  <a:pt x="634" y="7"/>
                </a:lnTo>
                <a:lnTo>
                  <a:pt x="618" y="1"/>
                </a:lnTo>
                <a:lnTo>
                  <a:pt x="601" y="0"/>
                </a:lnTo>
                <a:lnTo>
                  <a:pt x="87" y="0"/>
                </a:lnTo>
                <a:close/>
              </a:path>
            </a:pathLst>
          </a:custGeom>
          <a:solidFill>
            <a:srgbClr val="f3a84d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3978360" y="5979960"/>
            <a:ext cx="596520" cy="209880"/>
            <a:chOff x="3978360" y="5979960"/>
            <a:chExt cx="596520" cy="209880"/>
          </a:xfrm>
        </p:grpSpPr>
        <p:sp>
          <p:nvSpPr>
            <p:cNvPr id="167" name="Rectangle 29"/>
            <p:cNvSpPr/>
            <p:nvPr/>
          </p:nvSpPr>
          <p:spPr>
            <a:xfrm>
              <a:off x="4073760" y="6062760"/>
              <a:ext cx="501120" cy="44280"/>
            </a:xfrm>
            <a:prstGeom prst="rect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0"/>
            <p:cNvSpPr/>
            <p:nvPr/>
          </p:nvSpPr>
          <p:spPr>
            <a:xfrm>
              <a:off x="3978360" y="5979960"/>
              <a:ext cx="193320" cy="209880"/>
            </a:xfrm>
            <a:prstGeom prst="ellipse">
              <a:avLst/>
            </a:prstGeom>
            <a:solidFill>
              <a:srgbClr val="d3350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1"/>
          <p:cNvSpPr/>
          <p:nvPr/>
        </p:nvSpPr>
        <p:spPr>
          <a:xfrm>
            <a:off x="4676760" y="5813280"/>
            <a:ext cx="755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4711320" y="583236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3922200" y="53960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3782520" y="5832360"/>
            <a:ext cx="72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>
            <a:off x="1209600" y="4289400"/>
            <a:ext cx="135756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1609920" y="43070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7"/>
          <p:cNvSpPr/>
          <p:nvPr/>
        </p:nvSpPr>
        <p:spPr>
          <a:xfrm>
            <a:off x="1258920" y="4761000"/>
            <a:ext cx="1260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rt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op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Fuel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etType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hangeSpeed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1058760" y="1946160"/>
            <a:ext cx="1656000" cy="1254240"/>
          </a:xfrm>
          <a:prstGeom prst="rect">
            <a:avLst/>
          </a:prstGeom>
          <a:solidFill>
            <a:srgbClr val="ffe1c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8"/>
          <p:cNvSpPr/>
          <p:nvPr/>
        </p:nvSpPr>
        <p:spPr>
          <a:xfrm>
            <a:off x="3019320" y="2057400"/>
            <a:ext cx="9050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9"/>
          <p:cNvGrpSpPr/>
          <p:nvPr/>
        </p:nvGrpSpPr>
        <p:grpSpPr>
          <a:xfrm>
            <a:off x="2980080" y="2421000"/>
            <a:ext cx="941040" cy="203400"/>
            <a:chOff x="2980080" y="2421000"/>
            <a:chExt cx="941040" cy="203400"/>
          </a:xfrm>
        </p:grpSpPr>
        <p:sp>
          <p:nvSpPr>
            <p:cNvPr id="179" name="Rectangle 50"/>
            <p:cNvSpPr/>
            <p:nvPr/>
          </p:nvSpPr>
          <p:spPr>
            <a:xfrm>
              <a:off x="3014640" y="2421000"/>
              <a:ext cx="90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2980080" y="244152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lement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2"/>
          <p:cNvSpPr/>
          <p:nvPr/>
        </p:nvSpPr>
        <p:spPr>
          <a:xfrm>
            <a:off x="1158840" y="2111400"/>
            <a:ext cx="14605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3"/>
          <p:cNvSpPr/>
          <p:nvPr/>
        </p:nvSpPr>
        <p:spPr>
          <a:xfrm>
            <a:off x="1519560" y="2130480"/>
            <a:ext cx="72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4"/>
          <p:cNvSpPr/>
          <p:nvPr/>
        </p:nvSpPr>
        <p:spPr>
          <a:xfrm>
            <a:off x="1130040" y="2438280"/>
            <a:ext cx="1463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QueryInterface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Ref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lease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9"/>
          <p:cNvSpPr/>
          <p:nvPr/>
        </p:nvSpPr>
        <p:spPr>
          <a:xfrm>
            <a:off x="1947960" y="3352680"/>
            <a:ext cx="55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er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4110120" y="2585880"/>
            <a:ext cx="1457280" cy="7639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4073400" y="2548080"/>
            <a:ext cx="1459080" cy="761760"/>
          </a:xfrm>
          <a:prstGeom prst="ellipse">
            <a:avLst/>
          </a:prstGeom>
          <a:solidFill>
            <a:srgbClr val="d335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2"/>
          <p:cNvSpPr/>
          <p:nvPr/>
        </p:nvSpPr>
        <p:spPr>
          <a:xfrm>
            <a:off x="4369680" y="2084400"/>
            <a:ext cx="9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Cla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3"/>
          <p:cNvSpPr/>
          <p:nvPr/>
        </p:nvSpPr>
        <p:spPr>
          <a:xfrm>
            <a:off x="4453560" y="2730600"/>
            <a:ext cx="729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know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4159080" y="3675240"/>
            <a:ext cx="1459080" cy="763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4122720" y="3635280"/>
            <a:ext cx="1460520" cy="763560"/>
          </a:xfrm>
          <a:prstGeom prst="ellipse">
            <a:avLst/>
          </a:prstGeom>
          <a:solidFill>
            <a:srgbClr val="d335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4600800" y="3819600"/>
            <a:ext cx="55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7"/>
          <p:cNvSpPr/>
          <p:nvPr/>
        </p:nvSpPr>
        <p:spPr>
          <a:xfrm>
            <a:off x="5487120" y="649116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8"/>
          <p:cNvSpPr/>
          <p:nvPr/>
        </p:nvSpPr>
        <p:spPr>
          <a:xfrm flipH="1">
            <a:off x="2742840" y="2286000"/>
            <a:ext cx="11955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9"/>
          <p:cNvSpPr/>
          <p:nvPr/>
        </p:nvSpPr>
        <p:spPr>
          <a:xfrm flipH="1">
            <a:off x="5063760" y="4724280"/>
            <a:ext cx="119556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0"/>
          <p:cNvSpPr/>
          <p:nvPr/>
        </p:nvSpPr>
        <p:spPr>
          <a:xfrm>
            <a:off x="6753240" y="4724280"/>
            <a:ext cx="2808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1"/>
          <p:cNvSpPr/>
          <p:nvPr/>
        </p:nvSpPr>
        <p:spPr>
          <a:xfrm flipV="1">
            <a:off x="1828800" y="3200400"/>
            <a:ext cx="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erfaces, Classes and Fac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urrent SO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AP 1.2 specif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 SOAP Toolkit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che Ax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::Lite for Per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cket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oap for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5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A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3.org/TR/SO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SD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3.org/TR/WS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DD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uddi.o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 up on .NET, DNJ, http://www.dnjonline.com/articles/essentials/iss24_essentials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 Kirtland, Object-Oriented Software Development Made Simple with COM+ Runtime Services, MSDJ, http://www.microsoft.com/msj/defaultframe.asp?page=/msj/1197/complus.htm&amp;nav=/msj/1197/newnav.ht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600" y="1628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REST Archite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8472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8760"/>
                <a:tab algn="l" pos="858960"/>
                <a:tab algn="l" pos="1289160"/>
                <a:tab algn="l" pos="1719360"/>
                <a:tab algn="l" pos="2149560"/>
                <a:tab algn="l" pos="2579760"/>
                <a:tab algn="l" pos="3009960"/>
                <a:tab algn="l" pos="3440160"/>
                <a:tab algn="l" pos="3870360"/>
                <a:tab algn="l" pos="4300560"/>
                <a:tab algn="l" pos="4730760"/>
                <a:tab algn="l" pos="5160960"/>
                <a:tab algn="l" pos="5589720"/>
                <a:tab algn="l" pos="6019920"/>
                <a:tab algn="l" pos="6450120"/>
                <a:tab algn="l" pos="6880320"/>
                <a:tab algn="l" pos="7310520"/>
                <a:tab algn="l" pos="7740720"/>
                <a:tab algn="l" pos="8170920"/>
                <a:tab algn="l" pos="860112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w Cen MT Condensed"/>
              </a:rPr>
              <a:t>R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71400" y="2076120"/>
            <a:ext cx="7809120" cy="38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resentational State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architectural style, not a toolk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distillation of the way the Web already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8472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8760"/>
                <a:tab algn="l" pos="858960"/>
                <a:tab algn="l" pos="1289160"/>
                <a:tab algn="l" pos="1719360"/>
                <a:tab algn="l" pos="2149560"/>
                <a:tab algn="l" pos="2579760"/>
                <a:tab algn="l" pos="3009960"/>
                <a:tab algn="l" pos="3440160"/>
                <a:tab algn="l" pos="3870360"/>
                <a:tab algn="l" pos="4300560"/>
                <a:tab algn="l" pos="4730760"/>
                <a:tab algn="l" pos="5160960"/>
                <a:tab algn="l" pos="5589720"/>
                <a:tab algn="l" pos="6019920"/>
                <a:tab algn="l" pos="6450120"/>
                <a:tab algn="l" pos="6880320"/>
                <a:tab algn="l" pos="7310520"/>
                <a:tab algn="l" pos="7740720"/>
                <a:tab algn="l" pos="8170920"/>
                <a:tab algn="l" pos="860112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w Cen MT Condensed"/>
              </a:rPr>
              <a:t>Repres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71400" y="2076120"/>
            <a:ext cx="7809120" cy="38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s are first-class 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eed, “object” is a subtype of “resourc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s are retrieved not as character strings or BLOBs but as complete represen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8364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8760"/>
                <a:tab algn="l" pos="858960"/>
                <a:tab algn="l" pos="1289160"/>
                <a:tab algn="l" pos="1719360"/>
                <a:tab algn="l" pos="2149560"/>
                <a:tab algn="l" pos="2579760"/>
                <a:tab algn="l" pos="3009960"/>
                <a:tab algn="l" pos="3440160"/>
                <a:tab algn="l" pos="3870360"/>
                <a:tab algn="l" pos="4300560"/>
                <a:tab algn="l" pos="4730760"/>
                <a:tab algn="l" pos="5160960"/>
                <a:tab algn="l" pos="5589720"/>
                <a:tab algn="l" pos="6019920"/>
                <a:tab algn="l" pos="6450120"/>
                <a:tab algn="l" pos="6880320"/>
                <a:tab algn="l" pos="7310520"/>
                <a:tab algn="l" pos="7740720"/>
                <a:tab algn="l" pos="8170920"/>
                <a:tab algn="l" pos="860112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w Cen MT Condensed"/>
              </a:rPr>
              <a:t>A web page is a resour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71400" y="1699920"/>
            <a:ext cx="78091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web page is a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represent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f a re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s are just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Is tell a client that there's a concept somew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ents can then request a specific representation of the concept from the representations the server mak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8472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8760"/>
                <a:tab algn="l" pos="858960"/>
                <a:tab algn="l" pos="1289160"/>
                <a:tab algn="l" pos="1719360"/>
                <a:tab algn="l" pos="2149560"/>
                <a:tab algn="l" pos="2579760"/>
                <a:tab algn="l" pos="3009960"/>
                <a:tab algn="l" pos="3440160"/>
                <a:tab algn="l" pos="3870360"/>
                <a:tab algn="l" pos="4300560"/>
                <a:tab algn="l" pos="4730760"/>
                <a:tab algn="l" pos="5160960"/>
                <a:tab algn="l" pos="5589720"/>
                <a:tab algn="l" pos="6019920"/>
                <a:tab algn="l" pos="6450120"/>
                <a:tab algn="l" pos="6880320"/>
                <a:tab algn="l" pos="7310520"/>
                <a:tab algn="l" pos="7740720"/>
                <a:tab algn="l" pos="8170920"/>
                <a:tab algn="l" pos="860112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w Cen MT Condensed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71400" y="1628640"/>
            <a:ext cx="78091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e” means application/session st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ained as part of the content transferred from client to server back to cl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us any server can potentially continue transaction from the  point where it was left o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426960"/>
                <a:tab algn="l" pos="855720"/>
                <a:tab algn="l" pos="1285920"/>
                <a:tab algn="l" pos="1716120"/>
                <a:tab algn="l" pos="2146320"/>
                <a:tab algn="l" pos="2576520"/>
                <a:tab algn="l" pos="3006720"/>
                <a:tab algn="l" pos="3436920"/>
                <a:tab algn="l" pos="3867120"/>
                <a:tab algn="l" pos="4297320"/>
                <a:tab algn="l" pos="4727520"/>
                <a:tab algn="l" pos="5157720"/>
                <a:tab algn="l" pos="5587920"/>
                <a:tab algn="l" pos="6018120"/>
                <a:tab algn="l" pos="6446880"/>
                <a:tab algn="l" pos="6877080"/>
                <a:tab algn="l" pos="7307280"/>
                <a:tab algn="l" pos="7737480"/>
                <a:tab algn="l" pos="8167680"/>
                <a:tab algn="l" pos="859788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e is never left in limb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-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lient context is stored on the server between requ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rver can be stat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s can cache respo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s cannot tell whether it’s connected directly to the end server, or an intermedi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on demand (optio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re able to temporarily extend the functionality of a 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Guiding Principles of the Inte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tion of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UR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ipulation of resources through these represen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descriptive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media as the engine of application st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hyperlinks, hyper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Key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ility of component inter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ty of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deployment of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mediary components to reduce latency, enforce security, and encapsulate legacy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 interface defines behavior or capabilities of software component as a set of methods and proper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 is contract that guarantees consistent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COM object must support at least one interface (IUnknow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STful Web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asp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URI for the Web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 media type of the data supported by the Web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JSON, XML, or YA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t of operations supported by the Web service using HTTP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GET, PUT, POST, or DE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PI must be hypertext dr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official standard for RESTful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Web standard protocols are often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STful Web services: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HTTP methods explici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tate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e directory structure-like UR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XML, JSON, or bo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ing HTTP Methods Explicit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to-one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: to retrieve a resource on the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: to create a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: to change the state of a resource or to update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: to remove a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/adduser?name=Robert HTTP/1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 /users HTTP/1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: my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-Type: application/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us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name&gt;Robert&lt;/name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user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/updateuser?name=Robert&amp;newname=Bob HTTP/1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/users/Robert HTTP/1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: my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Type: application/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user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name&gt;Bob&lt;/name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/user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e State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calability, clients are required to send complete, independent requ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all data needed to be fulfilled so that the components in the intermediary servers may forward, route, and load-balance without any state being held locally in between requ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6" descr=""/>
          <p:cNvPicPr/>
          <p:nvPr/>
        </p:nvPicPr>
        <p:blipFill>
          <a:blip r:embed="rId1"/>
          <a:stretch/>
        </p:blipFill>
        <p:spPr>
          <a:xfrm>
            <a:off x="507960" y="1482840"/>
            <a:ext cx="8178840" cy="2301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80769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xpose directory structure-like U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www.myservice.org/discussion/topics/{topic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www.myservice.org/discussion/2008/12/10/{topic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de the server-side scripting technology file extensions (.jsp, .php, .asp), if any, so you can port to something else without changing the UR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ep everything lowerc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stitute spaces with hyphens or underscores (one or the oth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oid query strings as much as you c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ead of using the 404 Not Found code if the request URI is for a partial path, always provide a default page or resource as a respon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fer XML, JSON, or b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45820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discussion date="{date}" topic="{topic}"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omment&gt;{comment}&lt;/commen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replie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reply from="joe@mail.com" href="/discussion/topics/{topic}/joe"/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reply from="bob@mail.com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ef="/discussion/topics/{topic}/bob"/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replie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discussion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MIME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ON: application/j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: application/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HTML: application/xhtml+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en.wikipedia.org/wiki/Web_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ful Web services: the basics, by Alex Rodriguez, IBM developerWorks, available at: http://www.ibm.com/developerworks/webservices/library/ws-restful/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 pros/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OS function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er and easier to write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-party COM compon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infrastructure and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/server kept separate (e.g. different strings implement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L h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rvices allow exploiting the Web as a platfor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sty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 based: XML Web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 based: REST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ore DLL H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maybe, Namespace H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3:13:04Z</dcterms:created>
  <dc:creator>Giuseppe Attardi</dc:creator>
  <dc:description/>
  <dc:language>en-US</dc:language>
  <cp:lastModifiedBy>Giuseppe Attardi</cp:lastModifiedBy>
  <dcterms:modified xsi:type="dcterms:W3CDTF">2017-03-27T11:21:35Z</dcterms:modified>
  <cp:revision>84</cp:revision>
  <dc:subject/>
  <dc:title>  Web Services and .NET</dc:title>
</cp:coreProperties>
</file>